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FB6-C740-4214-848F-655FAFE3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069-1E31-4BF4-9D69-380B0675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308-3592-41DC-9553-DB1A632F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B62-66BF-438D-9F38-79F6BE92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97B-E3C6-4233-9405-F47B746D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E88-09C8-4ED8-8982-AD778F21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6D5-1FD7-4976-B9BF-8C3C4647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4A6-4899-46B0-A712-C18D841A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B31-C619-4836-A2DB-3DBA654F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3D8-3205-4CD9-9C52-739D9EFC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880-19EB-44E9-82AC-D2B3FB6F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3D3-BD40-432A-B5F7-AF71837C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4414-CBEC-45C1-BB62-1F19D87D845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2895480"/>
            <a:ext cx="6705360" cy="914400"/>
            <a:chOff x="990720" y="2895480"/>
            <a:chExt cx="6705360" cy="914400"/>
          </a:xfrm>
        </p:grpSpPr>
        <p:sp>
          <p:nvSpPr>
            <p:cNvPr id="42" name=""/>
            <p:cNvSpPr/>
            <p:nvPr/>
          </p:nvSpPr>
          <p:spPr>
            <a:xfrm>
              <a:off x="990720" y="2895480"/>
              <a:ext cx="6705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219320" y="31240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2096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91120" y="2971800"/>
                  <a:ext cx="2717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838080" y="533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724280" y="38088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90720" y="1371600"/>
            <a:ext cx="6705360" cy="609480"/>
            <a:chOff x="990720" y="137160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90720" y="137160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90720" y="2133720"/>
            <a:ext cx="6705360" cy="609480"/>
            <a:chOff x="990720" y="213372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90720" y="213372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219320" y="220968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209680" y="2209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3962520"/>
            <a:ext cx="6705360" cy="685800"/>
            <a:chOff x="990720" y="396252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90720" y="40384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219320" y="396252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2860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91120" y="396252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90720" y="4952880"/>
            <a:ext cx="6705360" cy="611280"/>
            <a:chOff x="990720" y="495288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90720" y="49528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219320" y="502920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286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86400" y="495288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227640" y="292428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740720" y="2205000"/>
            <a:ext cx="914400" cy="762120"/>
            <a:chOff x="7740720" y="2205000"/>
            <a:chExt cx="914400" cy="762120"/>
          </a:xfrm>
        </p:grpSpPr>
        <p:sp>
          <p:nvSpPr>
            <p:cNvPr id="68" name=""/>
            <p:cNvSpPr/>
            <p:nvPr/>
          </p:nvSpPr>
          <p:spPr>
            <a:xfrm>
              <a:off x="7740720" y="2205000"/>
              <a:ext cx="914400" cy="762120"/>
            </a:xfrm>
            <a:prstGeom prst="wedgeRoundRectCallout">
              <a:avLst>
                <a:gd name="adj1" fmla="val -116148"/>
                <a:gd name="adj2" fmla="val 79791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6680" y="2357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6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7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18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flipV="1">
            <a:off x="169236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39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0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 flipV="1">
            <a:off x="2411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2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3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20364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V="1">
            <a:off x="3059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5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6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378000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5805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90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95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2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2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643280" y="602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5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5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572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575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900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9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9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611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614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124000" y="595008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2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3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345960"/>
                <a:ext cx="4251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990720" y="1066680"/>
            <a:ext cx="6400800" cy="609840"/>
            <a:chOff x="990720" y="1066680"/>
            <a:chExt cx="6400800" cy="609840"/>
          </a:xfrm>
        </p:grpSpPr>
        <p:sp>
          <p:nvSpPr>
            <p:cNvPr id="73" name=""/>
            <p:cNvSpPr/>
            <p:nvPr/>
          </p:nvSpPr>
          <p:spPr>
            <a:xfrm>
              <a:off x="990720" y="10666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1066680"/>
                  <a:ext cx="207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990720" y="1752480"/>
            <a:ext cx="6400800" cy="609480"/>
            <a:chOff x="990720" y="1752480"/>
            <a:chExt cx="6400800" cy="609480"/>
          </a:xfrm>
        </p:grpSpPr>
        <p:sp>
          <p:nvSpPr>
            <p:cNvPr id="76" name=""/>
            <p:cNvSpPr/>
            <p:nvPr/>
          </p:nvSpPr>
          <p:spPr>
            <a:xfrm>
              <a:off x="990720" y="175248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219320" y="175248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990720" y="5105520"/>
            <a:ext cx="6400800" cy="685800"/>
            <a:chOff x="990720" y="510552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990720" y="510552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4300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990720" y="5867280"/>
            <a:ext cx="6400800" cy="635040"/>
            <a:chOff x="990720" y="5867280"/>
            <a:chExt cx="6400800" cy="635040"/>
          </a:xfrm>
        </p:grpSpPr>
        <p:sp>
          <p:nvSpPr>
            <p:cNvPr id="82" name=""/>
            <p:cNvSpPr/>
            <p:nvPr/>
          </p:nvSpPr>
          <p:spPr>
            <a:xfrm>
              <a:off x="990720" y="58672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430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990720" y="2362320"/>
            <a:ext cx="6400800" cy="2678040"/>
            <a:chOff x="990720" y="2362320"/>
            <a:chExt cx="6400800" cy="2678040"/>
          </a:xfrm>
        </p:grpSpPr>
        <p:sp>
          <p:nvSpPr>
            <p:cNvPr id="85" name=""/>
            <p:cNvSpPr/>
            <p:nvPr/>
          </p:nvSpPr>
          <p:spPr>
            <a:xfrm>
              <a:off x="990720" y="2438640"/>
              <a:ext cx="6400800" cy="259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828800" y="3048120"/>
                  <a:ext cx="5311800" cy="19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219320" y="2362320"/>
                  <a:ext cx="27162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780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5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6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556000" y="5877000"/>
                <a:ext cx="198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003640" y="595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24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29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771640" y="587700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48360" y="595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6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5720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8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9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１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1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2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7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8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2340000" y="5805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0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1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２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3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4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5516640"/>
                <a:ext cx="2636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16360" y="1268280"/>
                <a:ext cx="207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828800" y="3733920"/>
            <a:ext cx="685800" cy="1066680"/>
            <a:chOff x="1828800" y="3733920"/>
            <a:chExt cx="685800" cy="1066680"/>
          </a:xfrm>
        </p:grpSpPr>
        <p:sp>
          <p:nvSpPr>
            <p:cNvPr id="91" name=""/>
            <p:cNvSpPr/>
            <p:nvPr/>
          </p:nvSpPr>
          <p:spPr>
            <a:xfrm>
              <a:off x="1828800" y="3733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91440" y="380448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12960" y="457200"/>
                <a:ext cx="3184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9092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209680"/>
            <a:ext cx="685800" cy="1067040"/>
            <a:chOff x="1828800" y="2209680"/>
            <a:chExt cx="685800" cy="1067040"/>
          </a:xfrm>
        </p:grpSpPr>
        <p:sp>
          <p:nvSpPr>
            <p:cNvPr id="97" name=""/>
            <p:cNvSpPr/>
            <p:nvPr/>
          </p:nvSpPr>
          <p:spPr>
            <a:xfrm>
              <a:off x="1828800" y="220968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92200" y="294876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12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234936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91480" y="32288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2767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94040" y="32767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36572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7964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34000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1268280"/>
                <a:ext cx="13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0036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551664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1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551664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82692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4724280"/>
                <a:ext cx="198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537372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3280" y="602136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95640" y="4724280"/>
            <a:ext cx="48974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6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7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3708360" y="595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0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0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３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3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3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6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6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708360" y="587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5720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920" y="5877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ずれも，入力語を読み終えたとき受理状態に到達しないか，入力語を読み終えることができないので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123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128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68360" y="4797360"/>
                <a:ext cx="8205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は末尾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であるような語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602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62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65320" y="2530440"/>
            <a:ext cx="685800" cy="1066680"/>
            <a:chOff x="2065320" y="2530440"/>
            <a:chExt cx="685800" cy="1066680"/>
          </a:xfrm>
        </p:grpSpPr>
        <p:sp>
          <p:nvSpPr>
            <p:cNvPr id="1147" name=""/>
            <p:cNvSpPr/>
            <p:nvPr/>
          </p:nvSpPr>
          <p:spPr>
            <a:xfrm>
              <a:off x="2065320" y="253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127960" y="260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82744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6572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65320" y="1006560"/>
            <a:ext cx="685800" cy="1066680"/>
            <a:chOff x="2065320" y="1006560"/>
            <a:chExt cx="685800" cy="1066680"/>
          </a:xfrm>
        </p:grpSpPr>
        <p:sp>
          <p:nvSpPr>
            <p:cNvPr id="1152" name=""/>
            <p:cNvSpPr/>
            <p:nvPr/>
          </p:nvSpPr>
          <p:spPr>
            <a:xfrm>
              <a:off x="2065320" y="10065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628720" y="174528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55840" y="199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900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764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6592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42240" y="1920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712880" y="114624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5529240" y="193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3224160" y="193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7128000" y="2025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656240" y="207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230560" y="207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792520" y="316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3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4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2360" y="602136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6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7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602136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716360" y="609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9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0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219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222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258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261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75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80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0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1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10:55Z</dcterms:modified>
  <cp:revision>26</cp:revision>
  <dc:subject/>
  <dc:title>PowerPoint プレゼンテーション</dc:title>
</cp:coreProperties>
</file>