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839C-5373-4BD5-ABF4-C745EA81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FB40-53D2-488C-B6A5-4992D846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EA86-A98C-4381-9469-72E4F95B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454F-1C43-4A4F-AF6E-2EE90F1E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DA26-215D-4217-8A43-C446B6E2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EFD6-2A9A-4A1F-A770-01EBD2A6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9318-E069-4452-9D91-371D72C5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E1C-6613-4ECE-8985-17D651CE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1D4D-77A2-4A8B-8D8E-B240BF18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D84-6E0D-44A1-A9EF-4FDE7058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008-183A-45F4-9E21-621BB4CE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EB3-2246-4CFD-A0F4-E8B7CB4B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55A5-8988-47ED-976E-B59DD0D39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547640" y="620640"/>
                <a:ext cx="5448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57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1563840" y="3803760"/>
                  <a:ext cx="573084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62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6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71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622764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2997360"/>
            <a:ext cx="1440000" cy="576000"/>
          </a:xfrm>
          <a:prstGeom prst="wedgeRoundRectCallout">
            <a:avLst>
              <a:gd name="adj1" fmla="val -43717"/>
              <a:gd name="adj2" fmla="val 90495"/>
              <a:gd name="adj3" fmla="val 16667"/>
            </a:avLst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3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75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75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76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76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76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76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83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83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83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83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84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84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0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0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1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1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1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92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5796000" y="836640"/>
            <a:ext cx="3097080" cy="1368360"/>
            <a:chOff x="5796000" y="836640"/>
            <a:chExt cx="3097080" cy="1368360"/>
          </a:xfrm>
        </p:grpSpPr>
        <p:sp>
          <p:nvSpPr>
            <p:cNvPr id="956" name=""/>
            <p:cNvSpPr/>
            <p:nvPr/>
          </p:nvSpPr>
          <p:spPr>
            <a:xfrm>
              <a:off x="5796000" y="836640"/>
              <a:ext cx="3097080" cy="1368360"/>
            </a:xfrm>
            <a:prstGeom prst="wedgeRoundRectCallout">
              <a:avLst>
                <a:gd name="adj1" fmla="val 24578"/>
                <a:gd name="adj2" fmla="val 1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56360" y="90792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8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8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9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9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9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0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0" name=""/>
          <p:cNvGrpSpPr/>
          <p:nvPr/>
        </p:nvGrpSpPr>
        <p:grpSpPr>
          <a:xfrm>
            <a:off x="3708360" y="1916280"/>
            <a:ext cx="3527640" cy="1225440"/>
            <a:chOff x="3708360" y="1916280"/>
            <a:chExt cx="3527640" cy="1225440"/>
          </a:xfrm>
        </p:grpSpPr>
        <p:sp>
          <p:nvSpPr>
            <p:cNvPr id="1041" name=""/>
            <p:cNvSpPr/>
            <p:nvPr/>
          </p:nvSpPr>
          <p:spPr>
            <a:xfrm>
              <a:off x="3708360" y="1916280"/>
              <a:ext cx="3527640" cy="1225440"/>
            </a:xfrm>
            <a:prstGeom prst="wedgeRoundRectCallout">
              <a:avLst>
                <a:gd name="adj1" fmla="val -73041"/>
                <a:gd name="adj2" fmla="val 176425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24280" y="207972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07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07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07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07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08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8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1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5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15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15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15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16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16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16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9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1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3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23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23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24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24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24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24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5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1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1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32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32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32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33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859280" y="6093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859280" y="6669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9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9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0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0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0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1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2340000" y="3429000"/>
            <a:ext cx="2736720" cy="1368360"/>
            <a:chOff x="2340000" y="3429000"/>
            <a:chExt cx="2736720" cy="1368360"/>
          </a:xfrm>
        </p:grpSpPr>
        <p:sp>
          <p:nvSpPr>
            <p:cNvPr id="1448" name=""/>
            <p:cNvSpPr/>
            <p:nvPr/>
          </p:nvSpPr>
          <p:spPr>
            <a:xfrm>
              <a:off x="2340000" y="3429000"/>
              <a:ext cx="2736720" cy="1368360"/>
            </a:xfrm>
            <a:prstGeom prst="wedgeRoundRectCallout">
              <a:avLst>
                <a:gd name="adj1" fmla="val 73319"/>
                <a:gd name="adj2" fmla="val 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627280" y="371628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16000" y="260280"/>
                <a:ext cx="577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" name=""/>
          <p:cNvGrpSpPr/>
          <p:nvPr/>
        </p:nvGrpSpPr>
        <p:grpSpPr>
          <a:xfrm>
            <a:off x="1187280" y="907920"/>
            <a:ext cx="6264360" cy="520560"/>
            <a:chOff x="1187280" y="907920"/>
            <a:chExt cx="6264360" cy="520560"/>
          </a:xfrm>
        </p:grpSpPr>
        <p:sp>
          <p:nvSpPr>
            <p:cNvPr id="79" name=""/>
            <p:cNvSpPr/>
            <p:nvPr/>
          </p:nvSpPr>
          <p:spPr>
            <a:xfrm>
              <a:off x="1187280" y="92052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97040" y="907920"/>
                  <a:ext cx="34322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87280" y="1484280"/>
            <a:ext cx="6264360" cy="515880"/>
            <a:chOff x="1187280" y="1484280"/>
            <a:chExt cx="6264360" cy="515880"/>
          </a:xfrm>
        </p:grpSpPr>
        <p:sp>
          <p:nvSpPr>
            <p:cNvPr id="82" name=""/>
            <p:cNvSpPr/>
            <p:nvPr/>
          </p:nvSpPr>
          <p:spPr>
            <a:xfrm>
              <a:off x="1187280" y="1484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1557360"/>
                  <a:ext cx="26082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87280" y="2060640"/>
            <a:ext cx="6264360" cy="512280"/>
            <a:chOff x="1187280" y="2060640"/>
            <a:chExt cx="6264360" cy="512280"/>
          </a:xfrm>
        </p:grpSpPr>
        <p:sp>
          <p:nvSpPr>
            <p:cNvPr id="85" name=""/>
            <p:cNvSpPr/>
            <p:nvPr/>
          </p:nvSpPr>
          <p:spPr>
            <a:xfrm>
              <a:off x="1187280" y="206064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692360" y="2131920"/>
                  <a:ext cx="208908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763640" y="6021360"/>
                  <a:ext cx="120168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" name=""/>
          <p:cNvGrpSpPr/>
          <p:nvPr/>
        </p:nvGrpSpPr>
        <p:grpSpPr>
          <a:xfrm>
            <a:off x="1187280" y="2637000"/>
            <a:ext cx="6264360" cy="3240000"/>
            <a:chOff x="1187280" y="2637000"/>
            <a:chExt cx="6264360" cy="3240000"/>
          </a:xfrm>
        </p:grpSpPr>
        <p:sp>
          <p:nvSpPr>
            <p:cNvPr id="91" name=""/>
            <p:cNvSpPr/>
            <p:nvPr/>
          </p:nvSpPr>
          <p:spPr>
            <a:xfrm>
              <a:off x="1187280" y="2637000"/>
              <a:ext cx="6264360" cy="32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547640" y="2708280"/>
                  <a:ext cx="54723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835280" y="3357720"/>
                  <a:ext cx="5317920" cy="23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1619280" y="2349360"/>
            <a:ext cx="61214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，２通りの遷移の可能性があるが，受理条件を満たす様相（すなわち，入力を読み終え，状態が受理状態で，かつプッシュダウンスタックが空である様相）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33680" y="0"/>
                <a:ext cx="5537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c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7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47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48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8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8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9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9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4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5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5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5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5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5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5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2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63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63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63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64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64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64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2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1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71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71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72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72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72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6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7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8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1769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9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9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0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0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0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1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1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8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5364000" y="333360"/>
            <a:ext cx="2737080" cy="1368360"/>
            <a:chOff x="5364000" y="333360"/>
            <a:chExt cx="2737080" cy="1368360"/>
          </a:xfrm>
        </p:grpSpPr>
        <p:sp>
          <p:nvSpPr>
            <p:cNvPr id="1930" name=""/>
            <p:cNvSpPr/>
            <p:nvPr/>
          </p:nvSpPr>
          <p:spPr>
            <a:xfrm>
              <a:off x="5364000" y="333360"/>
              <a:ext cx="2737080" cy="1368360"/>
            </a:xfrm>
            <a:prstGeom prst="wedgeRoundRectCallout">
              <a:avLst>
                <a:gd name="adj1" fmla="val -102032"/>
                <a:gd name="adj2" fmla="val 12621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651640" y="62064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8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95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96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96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96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97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97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8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9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0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1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2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3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14" name=""/>
          <p:cNvGrpSpPr/>
          <p:nvPr/>
        </p:nvGrpSpPr>
        <p:grpSpPr>
          <a:xfrm>
            <a:off x="4067280" y="2421000"/>
            <a:ext cx="3527280" cy="1295280"/>
            <a:chOff x="4067280" y="2421000"/>
            <a:chExt cx="3527280" cy="1295280"/>
          </a:xfrm>
        </p:grpSpPr>
        <p:sp>
          <p:nvSpPr>
            <p:cNvPr id="2015" name=""/>
            <p:cNvSpPr/>
            <p:nvPr/>
          </p:nvSpPr>
          <p:spPr>
            <a:xfrm>
              <a:off x="4067280" y="2421000"/>
              <a:ext cx="3527280" cy="1295280"/>
            </a:xfrm>
            <a:prstGeom prst="wedgeRoundRectCallout">
              <a:avLst>
                <a:gd name="adj1" fmla="val -83393"/>
                <a:gd name="adj2" fmla="val 124754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11640" y="263700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4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4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4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5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05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05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05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5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2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12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12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13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3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4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7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651640" y="4005360"/>
            <a:ext cx="751320" cy="720720"/>
            <a:chOff x="5651640" y="4005360"/>
            <a:chExt cx="751320" cy="720720"/>
          </a:xfrm>
        </p:grpSpPr>
        <p:sp>
          <p:nvSpPr>
            <p:cNvPr id="95" name=""/>
            <p:cNvSpPr/>
            <p:nvPr/>
          </p:nvSpPr>
          <p:spPr>
            <a:xfrm flipH="1">
              <a:off x="6259320" y="4392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1640" y="4005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74920" y="4005360"/>
            <a:ext cx="752400" cy="720720"/>
            <a:chOff x="3274920" y="4005360"/>
            <a:chExt cx="752400" cy="720720"/>
          </a:xfrm>
        </p:grpSpPr>
        <p:sp>
          <p:nvSpPr>
            <p:cNvPr id="98" name=""/>
            <p:cNvSpPr/>
            <p:nvPr/>
          </p:nvSpPr>
          <p:spPr>
            <a:xfrm flipH="1">
              <a:off x="3883320" y="4392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4920" y="4005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10880" y="4057560"/>
            <a:ext cx="770760" cy="763560"/>
            <a:chOff x="1010880" y="4057560"/>
            <a:chExt cx="770760" cy="763560"/>
          </a:xfrm>
        </p:grpSpPr>
        <p:sp>
          <p:nvSpPr>
            <p:cNvPr id="101" name=""/>
            <p:cNvSpPr/>
            <p:nvPr/>
          </p:nvSpPr>
          <p:spPr>
            <a:xfrm flipV="1">
              <a:off x="1010880" y="416016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1012400">
              <a:off x="1040760" y="407880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508720" y="1844640"/>
            <a:ext cx="751320" cy="720720"/>
            <a:chOff x="5508720" y="1844640"/>
            <a:chExt cx="751320" cy="720720"/>
          </a:xfrm>
        </p:grpSpPr>
        <p:sp>
          <p:nvSpPr>
            <p:cNvPr id="104" name=""/>
            <p:cNvSpPr/>
            <p:nvPr/>
          </p:nvSpPr>
          <p:spPr>
            <a:xfrm flipH="1">
              <a:off x="6116400" y="2231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8720" y="1844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32000" y="1916280"/>
            <a:ext cx="752400" cy="720720"/>
            <a:chOff x="3132000" y="1916280"/>
            <a:chExt cx="752400" cy="720720"/>
          </a:xfrm>
        </p:grpSpPr>
        <p:sp>
          <p:nvSpPr>
            <p:cNvPr id="107" name=""/>
            <p:cNvSpPr/>
            <p:nvPr/>
          </p:nvSpPr>
          <p:spPr>
            <a:xfrm flipH="1">
              <a:off x="3740400" y="23029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32000" y="19162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44720" y="2852640"/>
            <a:ext cx="751320" cy="720720"/>
            <a:chOff x="1044720" y="2852640"/>
            <a:chExt cx="751320" cy="720720"/>
          </a:xfrm>
        </p:grpSpPr>
        <p:sp>
          <p:nvSpPr>
            <p:cNvPr id="110" name=""/>
            <p:cNvSpPr/>
            <p:nvPr/>
          </p:nvSpPr>
          <p:spPr>
            <a:xfrm flipH="1">
              <a:off x="1652400" y="3239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44720" y="2852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24000" y="6021360"/>
                <a:ext cx="3527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68360" y="692280"/>
                <a:ext cx="4013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27280" y="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1763640" y="299700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4760" y="2781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35772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0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84920" y="353844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58000" y="3611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55640" y="2349360"/>
                <a:ext cx="1152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885080" y="3500280"/>
                <a:ext cx="54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7672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9080" y="3500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71640" y="4869000"/>
                <a:ext cx="936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32000" y="1484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50920" y="2852640"/>
                <a:ext cx="719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40360" y="2276640"/>
                <a:ext cx="9666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508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724360" y="242100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867280" y="4581360"/>
                <a:ext cx="505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36920" y="4562640"/>
                <a:ext cx="4698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763640" y="4005360"/>
            <a:ext cx="15130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2997360"/>
            <a:ext cx="1440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43640" y="4149360"/>
            <a:ext cx="129708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5008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54400" y="3573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284720" y="450864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64000" y="1413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0000" y="3645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588000" y="2781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3860640"/>
                <a:ext cx="916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24000" y="3860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116000" y="549360"/>
            <a:ext cx="532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620640"/>
                <a:ext cx="1224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403280" y="54936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916360" y="620640"/>
                <a:ext cx="15494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835280" y="549360"/>
            <a:ext cx="396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195640" y="6021360"/>
                <a:ext cx="3632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900000" y="5805360"/>
            <a:ext cx="6120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68360" y="6021360"/>
                <a:ext cx="4589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971640" y="5734080"/>
            <a:ext cx="648000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484360" y="6021360"/>
                <a:ext cx="3353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187280" y="5805360"/>
            <a:ext cx="59058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484360" y="6021360"/>
                <a:ext cx="36784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403280" y="5734080"/>
            <a:ext cx="511344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00360" y="6021360"/>
                <a:ext cx="3348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76360" y="5805360"/>
            <a:ext cx="532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771640" y="6021360"/>
                <a:ext cx="3382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54764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987640" y="6021360"/>
                <a:ext cx="30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763640" y="5805360"/>
            <a:ext cx="49690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59280" y="6021360"/>
                <a:ext cx="3255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835280" y="5805360"/>
            <a:ext cx="518472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132000" y="6021360"/>
                <a:ext cx="3113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050920" y="5805360"/>
            <a:ext cx="4932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76720" y="6021360"/>
                <a:ext cx="3456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195640" y="5805360"/>
            <a:ext cx="5256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7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0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0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1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1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1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22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22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7" name=""/>
          <p:cNvSpPr/>
          <p:nvPr/>
        </p:nvSpPr>
        <p:spPr>
          <a:xfrm>
            <a:off x="5003640" y="6093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8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9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9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9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0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0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5" name=""/>
          <p:cNvSpPr/>
          <p:nvPr/>
        </p:nvSpPr>
        <p:spPr>
          <a:xfrm>
            <a:off x="5580000" y="6093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580000" y="666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6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36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36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37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37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7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8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1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44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44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44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45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45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45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7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3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"/>
          <p:cNvGrpSpPr/>
          <p:nvPr/>
        </p:nvGrpSpPr>
        <p:grpSpPr>
          <a:xfrm>
            <a:off x="5867280" y="549360"/>
            <a:ext cx="2592360" cy="1584360"/>
            <a:chOff x="5867280" y="549360"/>
            <a:chExt cx="2592360" cy="1584360"/>
          </a:xfrm>
        </p:grpSpPr>
        <p:sp>
          <p:nvSpPr>
            <p:cNvPr id="2492" name=""/>
            <p:cNvSpPr/>
            <p:nvPr/>
          </p:nvSpPr>
          <p:spPr>
            <a:xfrm>
              <a:off x="5867280" y="549360"/>
              <a:ext cx="2592360" cy="1584360"/>
            </a:xfrm>
            <a:prstGeom prst="wedgeRoundRectCallout">
              <a:avLst>
                <a:gd name="adj1" fmla="val 37689"/>
                <a:gd name="adj2" fmla="val 146791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012000" y="76500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"/>
          <p:cNvSpPr/>
          <p:nvPr/>
        </p:nvSpPr>
        <p:spPr>
          <a:xfrm>
            <a:off x="1619280" y="2349360"/>
            <a:ext cx="6265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も，２通りの遷移の可能性があるが，受理条件を満たす様相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も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"/>
          <p:cNvSpPr/>
          <p:nvPr/>
        </p:nvSpPr>
        <p:spPr>
          <a:xfrm>
            <a:off x="395280" y="404640"/>
            <a:ext cx="8424720" cy="410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6" name=""/>
          <p:cNvGrpSpPr/>
          <p:nvPr/>
        </p:nvGrpSpPr>
        <p:grpSpPr>
          <a:xfrm>
            <a:off x="5722920" y="2997360"/>
            <a:ext cx="752400" cy="720720"/>
            <a:chOff x="5722920" y="2997360"/>
            <a:chExt cx="752400" cy="720720"/>
          </a:xfrm>
        </p:grpSpPr>
        <p:sp>
          <p:nvSpPr>
            <p:cNvPr id="2497" name=""/>
            <p:cNvSpPr/>
            <p:nvPr/>
          </p:nvSpPr>
          <p:spPr>
            <a:xfrm flipH="1">
              <a:off x="633132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72292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3346560" y="2997360"/>
            <a:ext cx="751320" cy="720720"/>
            <a:chOff x="3346560" y="2997360"/>
            <a:chExt cx="751320" cy="720720"/>
          </a:xfrm>
        </p:grpSpPr>
        <p:sp>
          <p:nvSpPr>
            <p:cNvPr id="2500" name=""/>
            <p:cNvSpPr/>
            <p:nvPr/>
          </p:nvSpPr>
          <p:spPr>
            <a:xfrm flipH="1">
              <a:off x="3954240" y="3384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346560" y="2997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2" name=""/>
          <p:cNvGrpSpPr/>
          <p:nvPr/>
        </p:nvGrpSpPr>
        <p:grpSpPr>
          <a:xfrm>
            <a:off x="1081800" y="3049200"/>
            <a:ext cx="771840" cy="763920"/>
            <a:chOff x="1081800" y="3049200"/>
            <a:chExt cx="771840" cy="763920"/>
          </a:xfrm>
        </p:grpSpPr>
        <p:sp>
          <p:nvSpPr>
            <p:cNvPr id="2503" name=""/>
            <p:cNvSpPr/>
            <p:nvPr/>
          </p:nvSpPr>
          <p:spPr>
            <a:xfrm flipV="1">
              <a:off x="1081800" y="315216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rot="11012400">
              <a:off x="1112400" y="30708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5580000" y="836640"/>
            <a:ext cx="752400" cy="720720"/>
            <a:chOff x="5580000" y="836640"/>
            <a:chExt cx="752400" cy="720720"/>
          </a:xfrm>
        </p:grpSpPr>
        <p:sp>
          <p:nvSpPr>
            <p:cNvPr id="2506" name=""/>
            <p:cNvSpPr/>
            <p:nvPr/>
          </p:nvSpPr>
          <p:spPr>
            <a:xfrm flipH="1">
              <a:off x="6188400" y="1223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580000" y="836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8" name=""/>
          <p:cNvGrpSpPr/>
          <p:nvPr/>
        </p:nvGrpSpPr>
        <p:grpSpPr>
          <a:xfrm>
            <a:off x="3203640" y="907920"/>
            <a:ext cx="751320" cy="720720"/>
            <a:chOff x="3203640" y="907920"/>
            <a:chExt cx="751320" cy="720720"/>
          </a:xfrm>
        </p:grpSpPr>
        <p:sp>
          <p:nvSpPr>
            <p:cNvPr id="2509" name=""/>
            <p:cNvSpPr/>
            <p:nvPr/>
          </p:nvSpPr>
          <p:spPr>
            <a:xfrm flipH="1">
              <a:off x="3811320" y="12949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203640" y="9079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1" name=""/>
          <p:cNvGrpSpPr/>
          <p:nvPr/>
        </p:nvGrpSpPr>
        <p:grpSpPr>
          <a:xfrm>
            <a:off x="1116000" y="1844640"/>
            <a:ext cx="752400" cy="720720"/>
            <a:chOff x="1116000" y="1844640"/>
            <a:chExt cx="752400" cy="720720"/>
          </a:xfrm>
        </p:grpSpPr>
        <p:sp>
          <p:nvSpPr>
            <p:cNvPr id="2512" name=""/>
            <p:cNvSpPr/>
            <p:nvPr/>
          </p:nvSpPr>
          <p:spPr>
            <a:xfrm flipH="1">
              <a:off x="1724400" y="2231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116000" y="1844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 flipV="1">
            <a:off x="1835280" y="1989000"/>
            <a:ext cx="136836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956040" y="1773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11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042920" y="2421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132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756560" y="2530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7829640" y="2603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826920" y="13413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7956720" y="2492280"/>
                <a:ext cx="5410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3348000" y="141300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260360" y="2492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1042920" y="3860640"/>
                <a:ext cx="936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203640" y="476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2122560" y="184464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4211640" y="126828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9" name=""/>
          <p:cNvSpPr/>
          <p:nvPr/>
        </p:nvSpPr>
        <p:spPr>
          <a:xfrm>
            <a:off x="5580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274920" y="3573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722920" y="3573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5796000" y="1413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5938920" y="3573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3508200" y="3554280"/>
                <a:ext cx="4701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35" name=""/>
          <p:cNvSpPr/>
          <p:nvPr/>
        </p:nvSpPr>
        <p:spPr>
          <a:xfrm>
            <a:off x="1835280" y="299736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372360" y="1989000"/>
            <a:ext cx="143964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6515280" y="3141360"/>
            <a:ext cx="129672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111560" y="4000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9" name=""/>
              <p:cNvSpPr txBox="1"/>
              <p:nvPr/>
            </p:nvSpPr>
            <p:spPr>
              <a:xfrm>
                <a:off x="3325680" y="2565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0" name=""/>
              <p:cNvSpPr txBox="1"/>
              <p:nvPr/>
            </p:nvSpPr>
            <p:spPr>
              <a:xfrm>
                <a:off x="4356000" y="350028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1" name=""/>
              <p:cNvSpPr txBox="1"/>
              <p:nvPr/>
            </p:nvSpPr>
            <p:spPr>
              <a:xfrm>
                <a:off x="5435640" y="40464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2" name=""/>
              <p:cNvSpPr txBox="1"/>
              <p:nvPr/>
            </p:nvSpPr>
            <p:spPr>
              <a:xfrm>
                <a:off x="5651640" y="263700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3" name=""/>
              <p:cNvSpPr txBox="1"/>
              <p:nvPr/>
            </p:nvSpPr>
            <p:spPr>
              <a:xfrm>
                <a:off x="6659640" y="1773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4" name=""/>
              <p:cNvSpPr txBox="1"/>
              <p:nvPr/>
            </p:nvSpPr>
            <p:spPr>
              <a:xfrm>
                <a:off x="6659640" y="285264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5" name=""/>
              <p:cNvSpPr txBox="1"/>
              <p:nvPr/>
            </p:nvSpPr>
            <p:spPr>
              <a:xfrm>
                <a:off x="2195640" y="2852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6" name=""/>
              <p:cNvSpPr txBox="1"/>
              <p:nvPr/>
            </p:nvSpPr>
            <p:spPr>
              <a:xfrm>
                <a:off x="476280" y="5373720"/>
                <a:ext cx="7831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7" name=""/>
          <p:cNvSpPr/>
          <p:nvPr/>
        </p:nvSpPr>
        <p:spPr>
          <a:xfrm>
            <a:off x="539640" y="486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39640" y="6021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19280" y="0"/>
                <a:ext cx="5567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1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7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0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6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77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80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83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86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89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92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3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3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3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3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3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3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43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43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44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44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44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45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491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52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52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52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52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53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53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0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0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0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0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1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1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32:37Z</dcterms:modified>
  <cp:revision>33</cp:revision>
  <dc:subject/>
  <dc:title>PowerPoint プレゼンテーション</dc:title>
</cp:coreProperties>
</file>