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363-B1BF-4C74-BD2D-978FC3A9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A96-3508-4258-9ACD-1722A40A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C96-CFD8-4146-8BC6-ACF391FB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BA9-8019-40E1-B2B4-46A7C429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541-E29C-42E2-97D2-842A601C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660-C3DE-46F5-85E7-DB83A346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C57-479E-4732-AE3A-14ED4019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E13-A725-4CC2-80A3-14424CBE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831-EC89-4948-944D-9BE8BFB5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999-9B0C-4C32-8BA2-02AFB697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4D1-6159-4BE3-B984-4E7CA92E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214-7150-47AE-8A1B-943DD608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38E7-CD3C-4EF3-96DB-97881380F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403280" y="620640"/>
                <a:ext cx="5448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57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1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66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71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76360" y="3832200"/>
                  <a:ext cx="59054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241128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8360" y="1628640"/>
            <a:ext cx="5256360" cy="2160720"/>
            <a:chOff x="3708360" y="1628640"/>
            <a:chExt cx="5256360" cy="2160720"/>
          </a:xfrm>
        </p:grpSpPr>
        <p:sp>
          <p:nvSpPr>
            <p:cNvPr id="77" name=""/>
            <p:cNvSpPr/>
            <p:nvPr/>
          </p:nvSpPr>
          <p:spPr>
            <a:xfrm>
              <a:off x="3708360" y="1628640"/>
              <a:ext cx="5256360" cy="2160720"/>
            </a:xfrm>
            <a:prstGeom prst="wedgeRoundRectCallout">
              <a:avLst>
                <a:gd name="adj1" fmla="val -48037"/>
                <a:gd name="adj2" fmla="val 60652"/>
                <a:gd name="adj3" fmla="val 16667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924360" y="184464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24360" y="270828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364000" y="1773360"/>
              <a:ext cx="34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が定義されているときは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220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ど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643280" y="2349360"/>
                  <a:ext cx="30348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4932360" y="220500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に対して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63700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は定義されてい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1640" y="3213000"/>
              <a:ext cx="432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（動作の決定性が保証される。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33360"/>
                <a:ext cx="5737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1187280" y="1052640"/>
            <a:ext cx="6264360" cy="493560"/>
            <a:chOff x="1187280" y="1052640"/>
            <a:chExt cx="6264360" cy="493560"/>
          </a:xfrm>
        </p:grpSpPr>
        <p:sp>
          <p:nvSpPr>
            <p:cNvPr id="279" name=""/>
            <p:cNvSpPr/>
            <p:nvPr/>
          </p:nvSpPr>
          <p:spPr>
            <a:xfrm>
              <a:off x="1187280" y="105264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1692360" y="1052640"/>
                  <a:ext cx="20876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187280" y="1700280"/>
            <a:ext cx="6264360" cy="514440"/>
            <a:chOff x="1187280" y="1700280"/>
            <a:chExt cx="6264360" cy="514440"/>
          </a:xfrm>
        </p:grpSpPr>
        <p:sp>
          <p:nvSpPr>
            <p:cNvPr id="282" name=""/>
            <p:cNvSpPr/>
            <p:nvPr/>
          </p:nvSpPr>
          <p:spPr>
            <a:xfrm>
              <a:off x="1187280" y="1700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92360" y="1771920"/>
                  <a:ext cx="2158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1187280" y="2349360"/>
            <a:ext cx="6264360" cy="513000"/>
            <a:chOff x="1187280" y="2349360"/>
            <a:chExt cx="6264360" cy="513000"/>
          </a:xfrm>
        </p:grpSpPr>
        <p:sp>
          <p:nvSpPr>
            <p:cNvPr id="285" name=""/>
            <p:cNvSpPr/>
            <p:nvPr/>
          </p:nvSpPr>
          <p:spPr>
            <a:xfrm>
              <a:off x="1187280" y="2349360"/>
              <a:ext cx="626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692360" y="2421000"/>
                  <a:ext cx="2089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2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835280" y="6022800"/>
                  <a:ext cx="115092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1187280" y="2997360"/>
            <a:ext cx="6264360" cy="2808000"/>
            <a:chOff x="1187280" y="2997360"/>
            <a:chExt cx="6264360" cy="2808000"/>
          </a:xfrm>
        </p:grpSpPr>
        <p:sp>
          <p:nvSpPr>
            <p:cNvPr id="291" name=""/>
            <p:cNvSpPr/>
            <p:nvPr/>
          </p:nvSpPr>
          <p:spPr>
            <a:xfrm>
              <a:off x="1187280" y="2997360"/>
              <a:ext cx="6264360" cy="28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692360" y="3068640"/>
                  <a:ext cx="5040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411280" y="3573360"/>
                  <a:ext cx="2808360" cy="20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5589720"/>
                <a:ext cx="3502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1197000"/>
                <a:ext cx="273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835280" y="4076640"/>
            <a:ext cx="685800" cy="1067040"/>
            <a:chOff x="1835280" y="4076640"/>
            <a:chExt cx="685800" cy="1067040"/>
          </a:xfrm>
        </p:grpSpPr>
        <p:sp>
          <p:nvSpPr>
            <p:cNvPr id="297" name=""/>
            <p:cNvSpPr/>
            <p:nvPr/>
          </p:nvSpPr>
          <p:spPr>
            <a:xfrm>
              <a:off x="183528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84572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9236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84720" y="2565360"/>
            <a:ext cx="685800" cy="1066680"/>
            <a:chOff x="4284720" y="2565360"/>
            <a:chExt cx="685800" cy="1066680"/>
          </a:xfrm>
        </p:grpSpPr>
        <p:sp>
          <p:nvSpPr>
            <p:cNvPr id="301" name=""/>
            <p:cNvSpPr/>
            <p:nvPr/>
          </p:nvSpPr>
          <p:spPr>
            <a:xfrm>
              <a:off x="428472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2148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03520" y="42372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835280" y="2565360"/>
            <a:ext cx="685800" cy="1066680"/>
            <a:chOff x="1835280" y="2565360"/>
            <a:chExt cx="685800" cy="1066680"/>
          </a:xfrm>
        </p:grpSpPr>
        <p:sp>
          <p:nvSpPr>
            <p:cNvPr id="307" name=""/>
            <p:cNvSpPr/>
            <p:nvPr/>
          </p:nvSpPr>
          <p:spPr>
            <a:xfrm>
              <a:off x="18352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880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5892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4360" y="2421000"/>
                <a:ext cx="1162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7708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2764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008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556000" y="4581360"/>
                <a:ext cx="9874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4328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9236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21964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132000" y="1197000"/>
                <a:ext cx="129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908000" y="1052640"/>
            <a:ext cx="3961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19640" y="1197000"/>
                <a:ext cx="17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19564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589720"/>
                <a:ext cx="372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42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979640" y="5589720"/>
                <a:ext cx="33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258920" y="544500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5589720"/>
                <a:ext cx="3299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476360" y="5445000"/>
            <a:ext cx="4897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56000" y="5589720"/>
                <a:ext cx="37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692360" y="5445000"/>
            <a:ext cx="5111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189000"/>
                <a:ext cx="540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3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3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3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5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6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6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0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1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1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5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5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6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2" name=""/>
          <p:cNvGrpSpPr/>
          <p:nvPr/>
        </p:nvGrpSpPr>
        <p:grpSpPr>
          <a:xfrm>
            <a:off x="5651640" y="260280"/>
            <a:ext cx="3166920" cy="2376720"/>
            <a:chOff x="5651640" y="260280"/>
            <a:chExt cx="3166920" cy="2376720"/>
          </a:xfrm>
        </p:grpSpPr>
        <p:sp>
          <p:nvSpPr>
            <p:cNvPr id="723" name=""/>
            <p:cNvSpPr/>
            <p:nvPr/>
          </p:nvSpPr>
          <p:spPr>
            <a:xfrm>
              <a:off x="5651640" y="260280"/>
              <a:ext cx="3166920" cy="2376720"/>
            </a:xfrm>
            <a:prstGeom prst="wedgeRoundRectCallout">
              <a:avLst>
                <a:gd name="adj1" fmla="val 10652"/>
                <a:gd name="adj2" fmla="val 84736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96000" y="476280"/>
              <a:ext cx="2952720" cy="1355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たとき，受理状態に遷移し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その時プッシュダウンスタックは空（ボトムマーカーのみ）な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受理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5435640" y="3284640"/>
            <a:ext cx="3206880" cy="1180440"/>
            <a:chOff x="5435640" y="3284640"/>
            <a:chExt cx="3206880" cy="11804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435640" y="3284640"/>
                  <a:ext cx="3206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854360" y="189000"/>
                <a:ext cx="521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48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51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4" name=""/>
          <p:cNvGrpSpPr/>
          <p:nvPr/>
        </p:nvGrpSpPr>
        <p:grpSpPr>
          <a:xfrm>
            <a:off x="5867280" y="476280"/>
            <a:ext cx="2952720" cy="2521080"/>
            <a:chOff x="5867280" y="476280"/>
            <a:chExt cx="2952720" cy="2521080"/>
          </a:xfrm>
        </p:grpSpPr>
        <p:sp>
          <p:nvSpPr>
            <p:cNvPr id="1015" name=""/>
            <p:cNvSpPr/>
            <p:nvPr/>
          </p:nvSpPr>
          <p:spPr>
            <a:xfrm>
              <a:off x="5867280" y="476280"/>
              <a:ext cx="2952720" cy="2521080"/>
            </a:xfrm>
            <a:prstGeom prst="wedgeRoundRectCallout">
              <a:avLst>
                <a:gd name="adj1" fmla="val -66837"/>
                <a:gd name="adj2" fmla="val 7380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4000" y="620640"/>
              <a:ext cx="25837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は読み終えたが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受理状態ではなく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プッシュダウンスタックも空ではない。これ以上遷移できないので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は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1673280" y="189000"/>
                <a:ext cx="558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4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4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4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584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4584600" y="9684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180040" y="939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4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14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15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4595760" y="9572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180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9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0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0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595760" y="9446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16621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332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90840" y="184320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22480" y="184320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17733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85760" y="177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627280" y="1844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207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4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5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5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4608360" y="93204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92640" y="922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459900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51944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34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5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5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2456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2" name=""/>
          <p:cNvGrpSpPr/>
          <p:nvPr/>
        </p:nvGrpSpPr>
        <p:grpSpPr>
          <a:xfrm>
            <a:off x="5867280" y="549360"/>
            <a:ext cx="3097440" cy="2087640"/>
            <a:chOff x="5867280" y="549360"/>
            <a:chExt cx="3097440" cy="2087640"/>
          </a:xfrm>
        </p:grpSpPr>
        <p:sp>
          <p:nvSpPr>
            <p:cNvPr id="1373" name=""/>
            <p:cNvSpPr/>
            <p:nvPr/>
          </p:nvSpPr>
          <p:spPr>
            <a:xfrm>
              <a:off x="5867280" y="549360"/>
              <a:ext cx="3097440" cy="2087640"/>
            </a:xfrm>
            <a:prstGeom prst="wedgeRoundRectCallout">
              <a:avLst>
                <a:gd name="adj1" fmla="val -67685"/>
                <a:gd name="adj2" fmla="val 97148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2000" y="836640"/>
              <a:ext cx="2808000" cy="1050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ることができない（これ以上遷移できない）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35280" y="1197000"/>
            <a:ext cx="48974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同様に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だけから成る入力語は読み終えることはできるが，読み終えて遷移する状態は受理状態ではなく，かつその時のプッシュダウンスタックは空で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後に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て　　　　　　さらに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るような入力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から始まる入力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いずれ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その入力語を読み終えることができ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124000" y="5300640"/>
                <a:ext cx="4032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7" name=""/>
          <p:cNvSpPr/>
          <p:nvPr/>
        </p:nvSpPr>
        <p:spPr>
          <a:xfrm>
            <a:off x="900000" y="537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072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26920" y="83664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2222640" y="2997360"/>
            <a:ext cx="685800" cy="1066680"/>
            <a:chOff x="2222640" y="2997360"/>
            <a:chExt cx="685800" cy="1066680"/>
          </a:xfrm>
        </p:grpSpPr>
        <p:sp>
          <p:nvSpPr>
            <p:cNvPr id="1381" name=""/>
            <p:cNvSpPr/>
            <p:nvPr/>
          </p:nvSpPr>
          <p:spPr>
            <a:xfrm>
              <a:off x="2222640" y="2997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233440" y="3115440"/>
              <a:ext cx="1252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4672080" y="1486080"/>
            <a:ext cx="685800" cy="1066680"/>
            <a:chOff x="4672080" y="1486080"/>
            <a:chExt cx="685800" cy="1066680"/>
          </a:xfrm>
        </p:grpSpPr>
        <p:sp>
          <p:nvSpPr>
            <p:cNvPr id="1384" name=""/>
            <p:cNvSpPr/>
            <p:nvPr/>
          </p:nvSpPr>
          <p:spPr>
            <a:xfrm>
              <a:off x="467208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208840" y="223344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297828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656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2222640" y="1486080"/>
            <a:ext cx="685800" cy="1066680"/>
            <a:chOff x="2222640" y="1486080"/>
            <a:chExt cx="685800" cy="1066680"/>
          </a:xfrm>
        </p:grpSpPr>
        <p:sp>
          <p:nvSpPr>
            <p:cNvPr id="1389" name=""/>
            <p:cNvSpPr/>
            <p:nvPr/>
          </p:nvSpPr>
          <p:spPr>
            <a:xfrm>
              <a:off x="222264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2756160" y="223272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1646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9840" y="2349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9900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421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20080" y="249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071720" y="1341360"/>
                <a:ext cx="116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7264440" y="2421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481500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2287440" y="2373480"/>
                <a:ext cx="4492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2943360" y="350208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3230640" y="2421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3879720" y="162864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5607000" y="234936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5435640" y="3357720"/>
            <a:ext cx="3279600" cy="1107360"/>
            <a:chOff x="5435640" y="3357720"/>
            <a:chExt cx="3279600" cy="1107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08720" y="3357720"/>
                  <a:ext cx="32065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1160" y="16477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99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87640" y="1828800"/>
                <a:ext cx="39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19280" y="1828800"/>
                <a:ext cx="4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3520" y="1758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82560" y="1757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11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6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4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52640" y="3773520"/>
                <a:ext cx="561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56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期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592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305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800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94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4348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00720" y="3716280"/>
                <a:ext cx="4252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987640" y="5157720"/>
                <a:ext cx="568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35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0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3520" y="3790800"/>
                <a:ext cx="519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3824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58000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24360" y="5229360"/>
                <a:ext cx="49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99564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58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482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5420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364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3640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6712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2600" y="52610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51520" y="3141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ステップを繰り返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44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1417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8472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1080" y="3357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44840" y="3773520"/>
                <a:ext cx="60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0400" y="1700280"/>
                <a:ext cx="489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40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464328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94036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627280" y="177336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3080" y="51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3080" y="5805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4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動作停止時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404640"/>
                <a:ext cx="2305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1350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063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8558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016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1964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42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1840" y="5229360"/>
                <a:ext cx="61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00720" y="5300640"/>
            <a:ext cx="28872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00720" y="1628640"/>
            <a:ext cx="2592360" cy="2529000"/>
            <a:chOff x="6300720" y="1628640"/>
            <a:chExt cx="2592360" cy="252900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00720" y="1628640"/>
                  <a:ext cx="15224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ε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6300720" y="3141720"/>
              <a:ext cx="259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語を受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40:18Z</dcterms:modified>
  <cp:revision>31</cp:revision>
  <dc:subject/>
  <dc:title>PowerPoint プレゼンテーション</dc:title>
</cp:coreProperties>
</file>