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7764-B898-473A-8E04-B5AC61B8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7F67-7E21-4E3C-96A7-2D685E87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D6AA-CB91-418C-928A-97C370E7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6DA8-A445-4D56-983D-7B657A92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E130-B95B-4879-A8B5-5AE679F0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D5AE-9B2A-4416-9328-10C8A7BB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F021-6DC2-4741-ABD2-312F975D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D2EC-38CF-4334-A827-CE58837A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358F-31BC-43DA-BC52-B34D8BB4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2948-40BD-40F0-A739-C2312F9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B14C-0758-44A8-85C7-A9E34889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A22B-0616-456A-9E00-5F8A2B37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06A5-134C-4A99-9236-9DC2622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E71-9F44-414E-BD49-F76FDC12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FE87-675A-4D5E-8B78-6AC4B31B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EF69-4207-4A50-9A64-1D5A1CBB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2A65-4C88-4100-A938-7F436933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E2DC-D1AD-4D62-9B7E-00B67019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D36B-370C-41E5-B4ED-05B4E827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5947-6AB6-43DE-832E-0905D1A0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3282-6BE3-4A86-8FC7-F0E8228B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F01F-FB8D-4D56-831D-989A692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5070-04D5-4FA6-AFFD-AA8673E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997F-B60F-4E6F-B81E-A239819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88DB-6EF8-494E-A9AF-698406C62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1569-AEA7-4F03-85B9-66FCF768E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と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メディアリテラシ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社会と情報化社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に関する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人の著作物を公開すると訴訟問題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キャラクタが似ていると非難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中傷も批判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掲載するといたずらされる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71640" y="1341360"/>
            <a:ext cx="7488000" cy="4103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ディア・リテラシーの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に同感や批判を繰り返すことで、メディアリテラシーが身につ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報発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0640"/>
            <a:ext cx="2232000" cy="1224000"/>
          </a:xfrm>
          <a:prstGeom prst="ellipse">
            <a:avLst/>
          </a:prstGeom>
          <a:solidFill>
            <a:srgbClr val="9999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個人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413000"/>
            <a:ext cx="2232000" cy="1224000"/>
          </a:xfrm>
          <a:prstGeom prst="ellipse">
            <a:avLst/>
          </a:prstGeom>
          <a:solidFill>
            <a:srgbClr val="99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ブロ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060640"/>
            <a:ext cx="2232000" cy="1224000"/>
          </a:xfrm>
          <a:prstGeom prst="ellipse">
            <a:avLst/>
          </a:prstGeom>
          <a:solidFill>
            <a:srgbClr val="99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級新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429000"/>
            <a:ext cx="2232000" cy="1224000"/>
          </a:xfrm>
          <a:prstGeom prst="ellipse">
            <a:avLst/>
          </a:prstGeom>
          <a:solidFill>
            <a:srgbClr val="99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電子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42900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07664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インスタント・メッセンジ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システムの脅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ミスや処理ミ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発的に起こる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9200" y="19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システムへ悪影響を与え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931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災と人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989000"/>
            <a:ext cx="1152360" cy="360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ィルス対策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のアクセス権の設定を厳密に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をしっかり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ホールを埋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ックアップ体制の作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アウォール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ポリシー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機管理体制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13000"/>
            <a:ext cx="7705800" cy="316836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報倫理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セキュリティ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62864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ルールとマナ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373720"/>
            <a:ext cx="3600360" cy="719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情報倫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653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ネットワーク社会で求められる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357336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ネットワーク社会でのルールとマナ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メディアリテラシ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セキュリティ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205000"/>
            <a:ext cx="7921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ネットワーク社会で生き抜くためには次の３つが重要であ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2386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携帯電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カーナ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1800000" cy="863640"/>
          </a:xfrm>
          <a:prstGeom prst="rightArrow">
            <a:avLst>
              <a:gd name="adj1" fmla="val 50000"/>
              <a:gd name="adj2" fmla="val 521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ネット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76640"/>
            <a:ext cx="4175280" cy="2952720"/>
          </a:xfrm>
          <a:prstGeom prst="ellipse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たなコミュニケーションの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88000" y="1628640"/>
            <a:ext cx="3887640" cy="3240360"/>
          </a:xfrm>
          <a:prstGeom prst="rect">
            <a:avLst/>
          </a:prstGeom>
          <a:solidFill>
            <a:srgbClr val="3399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157720"/>
            <a:ext cx="8424720" cy="1511280"/>
          </a:xfrm>
          <a:prstGeom prst="rect">
            <a:avLst/>
          </a:prstGeom>
          <a:solidFill>
            <a:srgbClr val="99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ユビキタス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27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6200" y="15620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84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「ユビキタス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71592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いラテン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「どこにでもある」の意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781360"/>
            <a:ext cx="432000" cy="64908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48020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9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「いつでも」「どこでも」「なんでも」接続できる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33760" y="513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ユビキタス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734080"/>
            <a:ext cx="576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のルールとマナ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924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くの管理者の善意によって維持、更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に迷惑や不安がらせるような行為を行わ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より相手に対する思いやりが重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危険なところや怪しいところには行か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軽に色々な情報検索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ダルトサイトや自殺幇助のサイトに手軽に接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サイトや違法取引場に引き込まれ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流出の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悪意のあるユーザが存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意のユーザにもウィルスが届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侵入を試みるユーザが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・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パスワードの不正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への不正侵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ダウ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漏洩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の改ざ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内容の盗聴・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64000" y="1700280"/>
            <a:ext cx="5184720" cy="3024000"/>
          </a:xfrm>
          <a:prstGeom prst="rect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198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637000"/>
            <a:ext cx="2520720" cy="165564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マイナ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637000"/>
            <a:ext cx="2519280" cy="1655640"/>
          </a:xfrm>
          <a:prstGeom prst="ellipse">
            <a:avLst/>
          </a:prstGeom>
          <a:solidFill>
            <a:srgbClr val="008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プラ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740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2800" y="486900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悪の判断と情報の信憑性の判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373720"/>
            <a:ext cx="1368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6021360"/>
            <a:ext cx="4608720" cy="576360"/>
          </a:xfrm>
          <a:prstGeom prst="rect">
            <a:avLst/>
          </a:prstGeom>
          <a:solidFill>
            <a:srgbClr val="99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67f"/>
                </a:solidFill>
                <a:latin typeface="Times New Roman"/>
              </a:rPr>
              <a:t>メディア・リテラシ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04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989000"/>
            <a:ext cx="6697800" cy="3095640"/>
          </a:xfrm>
          <a:prstGeom prst="rect">
            <a:avLst/>
          </a:prstGeom>
          <a:solidFill>
            <a:srgbClr val="33cc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6040" y="14842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メディア・リテラシー ＝ 「メディア」 ＋ 「リテラシー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85640" y="1989000"/>
            <a:ext cx="21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新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雑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ラジ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インターネット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4292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「読み取る能力」と「書く能力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880" y="61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憑性が高く、信頼性のある「情報」を探し出す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59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メディ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0200" y="422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リテラ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9360" y="5229360"/>
            <a:ext cx="721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133720"/>
            <a:ext cx="647640" cy="1944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80536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を身につけ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閲覧だけでは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人間だけの電子メールのみでも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3720" y="465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報の信憑性を誰かに投げかけ真意を得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16280"/>
            <a:ext cx="1511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3:21:39Z</dcterms:created>
  <dc:creator>湯浅　聖記</dc:creator>
  <dc:description/>
  <dc:language>en-US</dc:language>
  <cp:lastModifiedBy>T.Yamazumi</cp:lastModifiedBy>
  <dcterms:modified xsi:type="dcterms:W3CDTF">2006-04-07T02:46:39Z</dcterms:modified>
  <cp:revision>11</cp:revision>
  <dc:subject/>
  <dc:title>情報倫理とメディアリテラシー</dc:title>
</cp:coreProperties>
</file>