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80F32-AC93-440E-B009-568E96BB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9031C-FF6C-4003-962D-935C3D6D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DC423-F9B5-40B2-B9B6-AAD3C9A7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F19AF-E444-40AB-B9FA-B2F6E04A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B629-9E85-4FE9-9D3B-FAAF3731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33B8-60A5-4C5F-96AC-DA6147D2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48A5-6106-4C94-91AD-AEDC4671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C332-DF98-4588-91BE-AE91FF9F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40F8-D996-46D7-B1A0-F36C9F25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4F8E-2E95-4E79-B07F-40F65811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FBC2-2A00-43AD-8224-6EDB3FC5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AE074-3C41-4782-ACC1-441F135A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10E9-BCF6-4F00-9B6F-D348C1B9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D862-41AD-48B6-87C6-D02378E3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5BA0-7E47-4803-9C83-F4A67751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9C6F-056F-477A-B7AD-D07C4F7C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AD61-B57B-4930-A212-F718BB15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928A-FE78-4D19-90B9-03821F52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25ABF-7DDD-4777-A695-9A3B985B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28720-3F8D-49E8-949B-CE46C315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A85CF-2479-4FD8-A169-FFDFF62A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5BAF0-B86E-4811-A433-D3969143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51298-373F-41C9-A329-F0FDB0F6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C4936-90CC-48F9-B598-7059477C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7128-F5B8-467B-9BED-382C7E517A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1561-05F2-436F-85F8-8849DE005D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４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7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携帯電話に感染するウィル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56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リーズメール（電卓機能を繰り返し使わせ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強制発信メール（特定の番号に発信す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1261800" cy="2592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1844640"/>
            <a:ext cx="5113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いたずら・いやがらせ目的の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7280" y="3141720"/>
            <a:ext cx="165564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3933720"/>
            <a:ext cx="867564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世界初の携帯電話に感染するウィルス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　「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Cabir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」 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(2004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4508640"/>
            <a:ext cx="7632720" cy="2128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特定の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O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搭載する携帯電話に感染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感染すると“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Caribe”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ピラニア）というメッセージを表示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分のコピーを他のデバイスへ送信する（ワーム活動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odafone 702N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（日本）にも感染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8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個人ユーザとしての対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84720" y="1844640"/>
            <a:ext cx="2357640" cy="2592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000" y="3573360"/>
            <a:ext cx="424800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１．ウィルス対策ソフトの導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4869000"/>
            <a:ext cx="41054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２．ウィルス対策ソフトの更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5734080"/>
            <a:ext cx="45356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３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やブラウザなどの更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2205000"/>
            <a:ext cx="49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１．メールの添付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やブラウザなどのセキュリティホ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700280"/>
            <a:ext cx="2233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な感染経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4005360"/>
            <a:ext cx="5329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インターネット接続の前に、インスト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外部から持ち込んだファイルのウィルスチェッ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53006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定義ファイルを最新版にアップデートし、新種・亜種のウィルスに対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2997360"/>
            <a:ext cx="216072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62373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修正ファイルをダウンロードしアップデート（自動更新機能の設定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8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組織としての対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1773360"/>
            <a:ext cx="4681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複数の人が同じコンピュータを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共通領域にあるファイルを共同で使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1773360"/>
            <a:ext cx="28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ウィルスが広がると、甚大な被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2781360"/>
            <a:ext cx="216072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3500280"/>
            <a:ext cx="360036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１．ネットワーク全体に対するウィルスチェッ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157720"/>
            <a:ext cx="360036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２．メディアやノートパソコンの持ち出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92720" y="3500280"/>
            <a:ext cx="2664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感染した際の対策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4221000"/>
            <a:ext cx="3600360" cy="846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送受信されるデータのスキャ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ファイアウォールの設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5950080"/>
            <a:ext cx="3600360" cy="3988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私物のコンピュータやメディアもウィルスチェ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076640"/>
            <a:ext cx="406872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１．コンピュータをネッから切り離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．被害状況を確認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３．ウィルスを駆除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４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の機関に連絡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有害なプログラ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8560" y="4149360"/>
            <a:ext cx="4319640" cy="21589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ワー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トロイの木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スパイウェア・アドウェ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マウィル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0384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060640"/>
            <a:ext cx="7632720" cy="119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マルウェア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al-ware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→　有害なプログラムの総称　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悪意を持っ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43640" y="3716280"/>
            <a:ext cx="210024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1280" y="3429000"/>
            <a:ext cx="3240000" cy="6476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マルウェア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コンピュータウィル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4221000"/>
            <a:ext cx="7777080" cy="1656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感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自分の複製をコピーし、増殖する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潜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ある条件を満たすまで活動せず潜む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発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ウィルスの目的とする有害な活動を行う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429000"/>
            <a:ext cx="489564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ウィルスの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67400" y="1413000"/>
            <a:ext cx="2271960" cy="2736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92360" y="6021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３つのうち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少なくとも１つの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を持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2133720"/>
            <a:ext cx="6048360" cy="1015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気づかぬ間にコンピュータへ忍び込む（感染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か悪さをしたり、自己増殖して広めたり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コンピュータウィルスの分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95280" y="1628640"/>
          <a:ext cx="8424720" cy="4902480"/>
        </p:xfrm>
        <a:graphic>
          <a:graphicData uri="http://schemas.openxmlformats.org/drawingml/2006/table">
            <a:tbl>
              <a:tblPr/>
              <a:tblGrid>
                <a:gridCol w="1706400"/>
                <a:gridCol w="2568600"/>
                <a:gridCol w="414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種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感染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ファイ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実行形式ファイル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M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を介して広まった初期型のウィルス（８０年代～）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型ウィルスとして現存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ブートセクタ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HD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のシステム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システム領域に感染し、ＰＣの起動時に活動してコントロールを奪う。８０年代に登場し亜種が現存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マクロ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ord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cel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等ののデータファイ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とアプリケーションソフ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として電子メールに添付ファイルを介して感染が広まる。作成・改変が比較的容易なため亜種が多く存在する。 （９０年代後半～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eb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ペー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e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閲覧時にマルチメディアコンテンツの実行で感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ctiveX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コントロール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Jav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プレッ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B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JavaScript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等のスクリプトに組み込まれる。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９０年代後半～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　ワー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280" y="4797360"/>
            <a:ext cx="4762440" cy="16574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害プログラムの１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増殖機能をも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のファイルに感染しな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2000" y="3789360"/>
            <a:ext cx="2425680" cy="2736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1628640"/>
            <a:ext cx="6626160" cy="2096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の添付ファイルとして自己増殖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のファイルには寄生しない点でウィルスと区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スクリプト言語やマクロで比較的容易に作成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つのワームを退治しても、亜種が出現する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4005360"/>
            <a:ext cx="5257800" cy="57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ワームの定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芋虫のような幼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　トロイの木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628640"/>
            <a:ext cx="7416720" cy="984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トロイの木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jan Hor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一見無害に思えるものが、中に入れた途端に悪さをするという意味。 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語源：ホメロスの叙事詩「イーリアス」よ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300720" y="3068640"/>
            <a:ext cx="2600280" cy="2146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3213000"/>
            <a:ext cx="4895640" cy="57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トロイの木馬型ウィルスの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3860280"/>
            <a:ext cx="6049800" cy="12956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般のソフトウェアに見せかけ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悪意のある仕掛けが組み込ま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感染や自己増殖機能はな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5373720"/>
            <a:ext cx="2376360" cy="431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O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877000"/>
            <a:ext cx="82803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トロイの木馬が感染した大量のコンピュータから特定のサーバに対してメールなどを一斉に送信し、サーバの機能を停止させてしまう攻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スパイウェア・アドウェ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205000"/>
            <a:ext cx="820908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個人情報の収集目的で、一般のアプリケーションと共に配布されるプログラム。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インストール時に、スパイウェアも組み込まれる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557360"/>
            <a:ext cx="2881440" cy="57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スパイウェア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292640"/>
            <a:ext cx="2736720" cy="57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アドウェア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4941720"/>
            <a:ext cx="820908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ユーザの画面上に特定の宣伝広告を表示させるためのプログラム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企業のマーケティング／宣伝活動に使われる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141720"/>
            <a:ext cx="7632720" cy="862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インストール時に利用に関する承諾画面が表示されるものがあ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バックグラウンドで情報を盗み出す。 （気が付きにく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5877000"/>
            <a:ext cx="763272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アクセス履歴やユーザのコンピュータに関する情報を記録し送信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7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ウィルスの届出件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1844640"/>
          <a:ext cx="5208480" cy="38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520848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5724360" y="1989000"/>
            <a:ext cx="3024360" cy="1233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届出件数：増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インターネットで猛威をふるうウィルスの出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届出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一般法人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3789360"/>
            <a:ext cx="3024360" cy="8161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実際の感染：減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個人のパソコンやプロバイダでのウィルス対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7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感染経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8360" y="1700280"/>
          <a:ext cx="8229600" cy="3895560"/>
        </p:xfrm>
        <a:graphic>
          <a:graphicData uri="http://schemas.openxmlformats.org/drawingml/2006/table">
            <a:tbl>
              <a:tblPr/>
              <a:tblGrid>
                <a:gridCol w="2016000"/>
                <a:gridCol w="1511280"/>
                <a:gridCol w="1584360"/>
                <a:gridCol w="1563840"/>
                <a:gridCol w="1554120"/>
              </a:tblGrid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経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届出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割合（％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届出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割合（％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電子メー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4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ネットワー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ブラウジ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外部メディ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不明・その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合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5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00.0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1619280" y="5661000"/>
            <a:ext cx="6048360" cy="10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大半は電子メール（添付ファイル）から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システムやブラウザの脆弱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T.Yamazumi</cp:lastModifiedBy>
  <dcterms:modified xsi:type="dcterms:W3CDTF">2005-12-15T02:08:00Z</dcterms:modified>
  <cp:revision>78</cp:revision>
  <dc:subject/>
  <dc:title>ネットワーク社会の 情報倫理</dc:title>
</cp:coreProperties>
</file>