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2815-6ADC-411F-A3F9-49860EA6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9603-0D4E-4678-9884-9B6AE8A9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843B-D7CA-4429-A840-C6FBE07F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3287-E417-427E-B055-CE1FEFBC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226-1536-444A-B124-1598F3E0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0A3-4B5D-4F4F-8C0B-DD1F4080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4873-95C0-4892-A842-9E3FDB0F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AFCF-2604-431D-A890-44D45CF1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CDB2-7DC8-4C9E-8210-D7805960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160B-074D-4120-ADA3-966B627B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C291-2DF2-4035-88B2-B376309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0B4A-01D2-4252-8EDE-6066109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6F55-01D4-420C-B75B-C1168000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139E-ED3F-4EB0-AFA2-6EB42DCF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D9BA-4447-45BC-8EA6-5854BF47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A593-4903-43FE-B861-884FC152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97E1-E40A-48AA-9F97-663C74D0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9033-3C97-4F7C-946B-5A98A721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60AE-E581-471C-ABC9-B7EF4239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F4C3-CD44-4B92-B061-51C66C54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6E5B-1D5F-43CE-9CC9-22711AD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8655-BFEB-486D-AAB3-C001802E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DEBB-4B1A-4147-AC73-921618F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9839-9367-41F4-9A00-64D9E8B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FB43-0521-4046-90D9-6925242FF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FB23-20D6-423F-96FD-798C1A952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ワン切りと不正請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924280"/>
            <a:ext cx="504036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かけ直すと自分の番号を知ら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388944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（番号通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31920" cy="2152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4005360"/>
            <a:ext cx="4248000" cy="1015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正請求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架空の有料サイト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500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ワン切り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絶対に応じ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不正な請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すべて無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メラ付き携帯による被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844640"/>
            <a:ext cx="6048360" cy="1015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画や動画の撮影機能が付いた携帯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撮影機能を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924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29000"/>
            <a:ext cx="633744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際相手に恥ずかしい写真を撮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を掲示板にアップロードされ中傷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被害は一瞬で広が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相手の気持ち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撮影機能を悪用し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ネット詐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3640" y="4581360"/>
            <a:ext cx="5400720" cy="1656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騙し取り＝ネット詐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ショ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オー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916280"/>
            <a:ext cx="6624720" cy="15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宅からインターネット上を介し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タログ通販やオークションを手軽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ショ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352728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品の確認が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924280"/>
            <a:ext cx="482436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支払い（振り込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700280"/>
            <a:ext cx="367200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画面で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3645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300640"/>
            <a:ext cx="295308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店舗の実績を確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300640"/>
            <a:ext cx="302436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取り引きの証拠を残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オークショ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919520"/>
            <a:ext cx="4321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古品を出品　→　落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3284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789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の趣味で収集した入手困難なも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568960"/>
            <a:ext cx="2800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的にユーザ同士の取り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4797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盗品、毒薬、銃刀類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犯罪に巻き込まれ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284640"/>
            <a:ext cx="73080" cy="2016000"/>
          </a:xfrm>
          <a:custGeom>
            <a:avLst/>
            <a:gdLst>
              <a:gd name="textAreaLeft" fmla="*/ 21240 w 73080"/>
              <a:gd name="textAreaRight" fmla="*/ 73440 w 7308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する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になるもの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詐欺に備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の証拠を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2205000"/>
            <a:ext cx="3166920" cy="862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物営業法（第６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005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電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本、ゲーム、衣類、食品、チケット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知的財産権の侵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000" y="4508640"/>
            <a:ext cx="6049800" cy="1944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権侵害となるケースに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ジタルデータと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ファイル共有ソフ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4535640" cy="151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ジタルデータはすべ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ル単位で扱わ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349360"/>
            <a:ext cx="2592360" cy="7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ピーが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708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ネット犯罪の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犯罪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の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による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詐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的財産権の侵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を利用した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誹謗中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序良俗に反する情報の公開・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殺ほう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ねずみ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981600" cy="22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犯罪の特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36000" cy="1079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と空間に関係なく起こり、一瞬にして世界中に広ま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997360"/>
            <a:ext cx="396108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国境が無い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法律・規制から逃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97360"/>
            <a:ext cx="388764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齢性別によら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トラブルに巻き込ま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653000"/>
            <a:ext cx="388764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ワークで身を隠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軽い気持ちで犯罪を犯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653000"/>
            <a:ext cx="396108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者と加害者の識別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被害者のはずが加害者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個人情報の流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4941360"/>
            <a:ext cx="3457800" cy="12956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収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133720"/>
            <a:ext cx="633708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上で個人情報を入力する機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カード番号やパスワード    ： 電子商取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メールや住所等の連絡先  ： 懸賞、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流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84464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529080" cy="936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ライバシーが侵害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出した情報を悪用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信用が失墜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1052640"/>
            <a:ext cx="1944720" cy="1008000"/>
          </a:xfrm>
          <a:prstGeom prst="irregularSeal1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410364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に持ち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429000"/>
            <a:ext cx="403200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難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445000"/>
            <a:ext cx="4176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機密情報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組織内のルール策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410508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スワードやＰＣ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盗難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501336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01336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収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16280"/>
            <a:ext cx="3024360" cy="865080"/>
          </a:xfrm>
          <a:prstGeom prst="parallelogram">
            <a:avLst>
              <a:gd name="adj" fmla="val 1468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1800000" cy="125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987640" y="3284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2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724280"/>
            <a:ext cx="295272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ンケートフォームなどで個人情報を釣り上げ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5950080"/>
            <a:ext cx="611964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UR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クロスサイト・スクリプティン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1800360" cy="125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4724280"/>
            <a:ext cx="26654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860640"/>
            <a:ext cx="2374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別サイトへ誘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5950080"/>
            <a:ext cx="6120000" cy="398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ブラウザでスクリプトの実行を許可すると危険がともな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携帯電話による犯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0920" y="4365720"/>
            <a:ext cx="4896000" cy="2006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会い系サイ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と不正請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メラ付携帯による被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1844640"/>
            <a:ext cx="5832360" cy="172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・ブラウジング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同等の機能で犯罪も多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3933720"/>
            <a:ext cx="59040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出会い系サイ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773360"/>
            <a:ext cx="251928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924280"/>
            <a:ext cx="26654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773360"/>
            <a:ext cx="338472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924280"/>
            <a:ext cx="338472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の番号通知で本人を認証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40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の被害：金品を強奪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軽い気持ちで会わな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445000"/>
            <a:ext cx="388800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慎重かつ分別ある行動を！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図書情報センター</cp:lastModifiedBy>
  <dcterms:modified xsi:type="dcterms:W3CDTF">2005-12-09T01:19:53Z</dcterms:modified>
  <cp:revision>64</cp:revision>
  <dc:subject/>
  <dc:title>ネットワーク社会の情報倫理</dc:title>
</cp:coreProperties>
</file>