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202B-882A-4A47-984F-62B5C25D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4382-178A-4294-9A10-9223438F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6625-6FC6-4731-8A6F-8FCE5B03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8AB7-D3F8-4AD5-8B87-DC0E4CB7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542C-9194-49BB-ACFF-29171B48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DFFD-6302-4018-9805-48F8CBC6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D2E3-0F2F-46A0-9846-5C664C09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7D12-AA2F-4824-AB58-126A3F44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5EC6-E1FC-4573-B31D-849BBF1F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D362-B6C5-4378-A571-240AA078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B8CC-A56C-44DA-8F77-4FCEDB4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9500-D3D0-4422-8719-FF7C0C81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8C0E-BE1E-4FD6-98E9-ADAE686D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B700-186D-4E22-9759-25FE3E51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CE4A-AA96-41BE-91A8-5C856393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F849-7834-41B6-845F-18A05C30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BFBC-5CE4-49B2-A8CB-6D1E3E63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0A3D0-AE20-4464-8A7F-9F38205A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41A6-0901-439D-A9C9-829A308B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BC7A-B865-4691-AE56-7B90FBFE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689B9-C30E-4F7B-B3EF-0AED650B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28B9-FC33-47C0-85B5-93AE17C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230D-2C50-4F5C-9BCA-1EB05903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BE58-F6DC-4043-B4FF-C5D789DE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BEA7-2F38-46BE-9289-5DF226710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D28E-521D-473E-9B31-921634671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hoo.co.jp/" TargetMode="External"/><Relationship Id="rId2" Type="http://schemas.openxmlformats.org/officeDocument/2006/relationships/hyperlink" Target="http://www.google.co.jp/" TargetMode="External"/><Relationship Id="rId3" Type="http://schemas.openxmlformats.org/officeDocument/2006/relationships/hyperlink" Target="http://www.goo.ne.jp/" TargetMode="External"/><Relationship Id="rId4" Type="http://schemas.openxmlformats.org/officeDocument/2006/relationships/hyperlink" Target="http://www.infoseek.co.jp/" TargetMode="External"/><Relationship Id="rId5" Type="http://schemas.openxmlformats.org/officeDocument/2006/relationships/hyperlink" Target="http://www.wodge.biz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２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ネットサービスとその仕組み（前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21080" cy="33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600360" cy="339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90760" y="551664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47520" y="5516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716280"/>
            <a:ext cx="576360" cy="504720"/>
          </a:xfrm>
          <a:prstGeom prst="rightArrow">
            <a:avLst>
              <a:gd name="adj1" fmla="val 50000"/>
              <a:gd name="adj2" fmla="val 285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yahoo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google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goo.ne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フォシ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infoseek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検索サイト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wodge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0560" y="155736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上にあ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の情報を探し出すため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イトでポータルサイトとも呼ばれ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その他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ページ（ホームペー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頃盛ん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ちゃんね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最大の電子掲示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ェブロ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芸能人や野球選手、企業などが情報提供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転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032000" cy="146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647880" cy="2981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63880" y="2349360"/>
            <a:ext cx="246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バに保存する形式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利用する。ほかの人にサー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紹介しダウンロードしてもら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916280"/>
            <a:ext cx="3598920" cy="43308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ファイル転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076640"/>
            <a:ext cx="3598920" cy="43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nn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よるファイル共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40560" y="46594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クライアント同士で直接通信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を共有しあう方式で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インターネットで提供されるサービ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ミュニケ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、チャット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話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報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楽と映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楽配信、ビデオオンデマンド、ライブ映像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電子商取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ショッピング、ネットオークション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を支える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3908520" cy="382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038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サーバ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472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サーバ利用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0040" y="486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1512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提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4290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500280"/>
            <a:ext cx="431640" cy="1297080"/>
          </a:xfrm>
          <a:prstGeom prst="upArrow">
            <a:avLst>
              <a:gd name="adj1" fmla="val 50000"/>
              <a:gd name="adj2" fmla="val 751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なインターネットサー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 電子メール送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電子メール受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提供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名前解決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･ ファイル転送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レス自動割付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バとクライアントの関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0000" y="2205000"/>
            <a:ext cx="1511280" cy="2592360"/>
            <a:chOff x="900000" y="2205000"/>
            <a:chExt cx="1511280" cy="2592360"/>
          </a:xfrm>
        </p:grpSpPr>
        <p:sp>
          <p:nvSpPr>
            <p:cNvPr id="122" name=""/>
            <p:cNvSpPr/>
            <p:nvPr/>
          </p:nvSpPr>
          <p:spPr>
            <a:xfrm>
              <a:off x="900000" y="220500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0000" y="2852640"/>
              <a:ext cx="1511280" cy="64800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50208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414972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372360" y="3068640"/>
            <a:ext cx="2015640" cy="1728720"/>
            <a:chOff x="6372360" y="3068640"/>
            <a:chExt cx="2015640" cy="1728720"/>
          </a:xfrm>
        </p:grpSpPr>
        <p:sp>
          <p:nvSpPr>
            <p:cNvPr id="127" name=""/>
            <p:cNvSpPr/>
            <p:nvPr/>
          </p:nvSpPr>
          <p:spPr>
            <a:xfrm>
              <a:off x="6372360" y="306864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メールソフ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2360" y="364500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ブラウ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72360" y="4221360"/>
              <a:ext cx="2015640" cy="57600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クライア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11280" y="4797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0520" y="249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80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80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488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1240" y="3286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944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416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56000" y="2637000"/>
            <a:ext cx="2952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7280" y="3212640"/>
            <a:ext cx="28814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860640"/>
            <a:ext cx="280836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45100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21840" y="177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36240" y="26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クライア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5120" y="5373720"/>
            <a:ext cx="666720" cy="459720"/>
          </a:xfrm>
          <a:prstGeom prst="rect">
            <a:avLst/>
          </a:prstGeom>
          <a:solidFill>
            <a:srgbClr val="9999ff">
              <a:alpha val="41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は、番号でソフトウェアを認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257800" cy="199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30600" y="4724280"/>
            <a:ext cx="29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bc@japan-u.ac.j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2640" y="472428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bcd@usa-u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83760" y="15573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や画像などを相手の電子メールアドレスを管理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に送信するサービスを電子メールと呼び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7840" y="3213000"/>
            <a:ext cx="12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8920" y="3213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を利用した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マガジ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登録することで趣味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ある情報を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発行会社が送って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仲間同士でメールを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する際に利用するメール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ビス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953080" cy="246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3457440" cy="167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6048720" cy="315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84040" y="1557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をはじめ、画像や音声、動画などさまざまな情報を文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して提供するサービスである。情報検索を行うサービス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ありインターネットの標準的サービスとも言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ブラウザ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ラウザ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Uniform Resource Locato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548640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聖記</cp:lastModifiedBy>
  <dcterms:modified xsi:type="dcterms:W3CDTF">2006-01-09T07:57:42Z</dcterms:modified>
  <cp:revision>82</cp:revision>
  <dc:subject/>
  <dc:title>ネットワーク社会の 情報倫理</dc:title>
</cp:coreProperties>
</file>