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F0B831-1B6B-4AC8-932D-AA61CAFEC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0760FB-B6D0-4410-BBE7-913545B51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93D000-5169-4929-A789-6DD035ACF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82D3FF-E31C-4E57-9435-CEF370433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BA581-C9CA-4882-BD16-8BA2B5C0D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8C4D2-4A61-4AD3-B2B1-A8D33DE29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9DA78-7D2D-4BEB-A491-6B718DBEE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0D1D2-24C1-4AE8-BF2E-BE76617AD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D9B33-764A-4B30-8DE5-A2A3CED72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D87D3-CD59-4196-B292-27B89F2C9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D06C9-A683-48B2-B199-E067B2E80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7297FC-CB3C-4A37-96DA-09276D1B8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44C6F-5C6B-41D9-8767-469A894EF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17776-DA12-425B-9156-D3EC8A512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C5AA1-AB24-451B-8E1E-8729DBC62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37CED-4AE2-4596-8C55-4C3970475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39113-95F8-4665-A32E-A39F21893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3C87F0-AE91-43A0-91EF-EF1F88D6A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215237-DE40-40AC-854D-420DA3C68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197F0C-5709-4521-9270-A239B30AD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D99AE2-3357-44C7-A0E3-D47C75BBC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C81582-D94E-47C7-8196-81E755CF4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4E7C87-C5C7-42A6-ADF7-DA600F5D4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18FABF-64AE-49A1-9FDA-F598947CD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9EEFD-5E83-402E-8CF8-DE07D7C14F0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D04B9-C595-465D-BB5A-F9F1CA80004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ffffff"/>
                </a:solidFill>
                <a:latin typeface="Arial"/>
              </a:rPr>
              <a:t>ネットワーク社会の</a:t>
            </a:r>
            <a:br>
              <a:rPr sz="5000"/>
            </a:br>
            <a:r>
              <a:rPr b="0" lang="zh-CN" sz="5000" spc="-1" strike="noStrike">
                <a:solidFill>
                  <a:srgbClr val="ffffff"/>
                </a:solidFill>
                <a:latin typeface="Arial"/>
              </a:rPr>
              <a:t>情報倫理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第６章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インターネットと法律（前編）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ＭＳ Ｐ明朝"/>
              </a:rPr>
              <a:t>［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ＭＳ Ｐ明朝"/>
              </a:rPr>
              <a:t>近代科学社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ＭＳ Ｐ明朝"/>
              </a:rPr>
              <a:t>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79280" y="1557360"/>
            <a:ext cx="5688000" cy="4680000"/>
          </a:xfrm>
          <a:prstGeom prst="rect">
            <a:avLst/>
          </a:prstGeom>
          <a:solidFill>
            <a:srgbClr val="99cc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940360" y="1557360"/>
            <a:ext cx="2952720" cy="4680000"/>
          </a:xfrm>
          <a:prstGeom prst="rect">
            <a:avLst/>
          </a:prstGeom>
          <a:solidFill>
            <a:srgbClr val="9999ff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08000" y="1484280"/>
            <a:ext cx="8856720" cy="5257800"/>
          </a:xfrm>
          <a:prstGeom prst="rect">
            <a:avLst/>
          </a:prstGeom>
          <a:solidFill>
            <a:srgbClr val="ccffcc">
              <a:alpha val="40000"/>
            </a:srgbClr>
          </a:soli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著作権（財産権と人格権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300720" y="3357720"/>
            <a:ext cx="2089080" cy="431640"/>
          </a:xfrm>
          <a:prstGeom prst="rect">
            <a:avLst/>
          </a:prstGeom>
          <a:solidFill>
            <a:srgbClr val="ff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公表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300720" y="1916280"/>
            <a:ext cx="2089080" cy="431640"/>
          </a:xfrm>
          <a:prstGeom prst="rect">
            <a:avLst/>
          </a:prstGeom>
          <a:solidFill>
            <a:srgbClr val="ff99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氏名表示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300720" y="2637000"/>
            <a:ext cx="2089080" cy="431640"/>
          </a:xfrm>
          <a:prstGeom prst="rect">
            <a:avLst/>
          </a:prstGeom>
          <a:solidFill>
            <a:srgbClr val="33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同一性保持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39640" y="1773360"/>
            <a:ext cx="2089440" cy="431640"/>
          </a:xfrm>
          <a:prstGeom prst="rect">
            <a:avLst/>
          </a:prstGeom>
          <a:solidFill>
            <a:srgbClr val="ff9900">
              <a:alpha val="50000"/>
            </a:srgbClr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複製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132000" y="1773360"/>
            <a:ext cx="2089440" cy="431640"/>
          </a:xfrm>
          <a:prstGeom prst="rect">
            <a:avLst/>
          </a:prstGeom>
          <a:solidFill>
            <a:srgbClr val="00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演奏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39640" y="2421000"/>
            <a:ext cx="2089440" cy="43164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上演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132000" y="2421000"/>
            <a:ext cx="2089440" cy="431640"/>
          </a:xfrm>
          <a:prstGeom prst="rect">
            <a:avLst/>
          </a:prstGeom>
          <a:solidFill>
            <a:srgbClr val="ff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頒布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39640" y="3573360"/>
            <a:ext cx="2089440" cy="432000"/>
          </a:xfrm>
          <a:prstGeom prst="rect">
            <a:avLst/>
          </a:pr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上映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132000" y="4221000"/>
            <a:ext cx="2089440" cy="432000"/>
          </a:xfrm>
          <a:prstGeom prst="rect">
            <a:avLst/>
          </a:prstGeom>
          <a:solidFill>
            <a:srgbClr val="d6009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公衆送信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132000" y="4941720"/>
            <a:ext cx="2089440" cy="432000"/>
          </a:xfrm>
          <a:prstGeom prst="rect">
            <a:avLst/>
          </a:prstGeom>
          <a:solidFill>
            <a:srgbClr val="99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口述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132000" y="2997360"/>
            <a:ext cx="2089440" cy="43164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展示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39640" y="2997360"/>
            <a:ext cx="2089440" cy="431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翻案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39640" y="4869000"/>
            <a:ext cx="2089440" cy="431640"/>
          </a:xfrm>
          <a:prstGeom prst="rect">
            <a:avLst/>
          </a:prstGeom>
          <a:solidFill>
            <a:srgbClr val="9999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翻訳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715640" y="56610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財産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739640" y="56610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人格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508720" y="6237360"/>
            <a:ext cx="33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両方合わせて著作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39640" y="4221000"/>
            <a:ext cx="2089440" cy="432000"/>
          </a:xfrm>
          <a:prstGeom prst="rect">
            <a:avLst/>
          </a:prstGeom>
          <a:solidFill>
            <a:srgbClr val="ff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貸与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132000" y="3573360"/>
            <a:ext cx="2089440" cy="432000"/>
          </a:xfrm>
          <a:prstGeom prst="rect">
            <a:avLst/>
          </a:prstGeom>
          <a:solidFill>
            <a:srgbClr val="cc33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放送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39640" y="5516640"/>
            <a:ext cx="2089440" cy="431640"/>
          </a:xfrm>
          <a:prstGeom prst="rect">
            <a:avLst/>
          </a:prstGeom>
          <a:solidFill>
            <a:srgbClr val="99ff3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伝達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インターネットと法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ネットワーク社会の誕生に伴い、新たな法律の枠組みが必要となっ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多くは現実の民法や刑事法が支えてい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835280" y="3284640"/>
            <a:ext cx="6049800" cy="3384360"/>
            <a:chOff x="1835280" y="3284640"/>
            <a:chExt cx="6049800" cy="3384360"/>
          </a:xfrm>
        </p:grpSpPr>
        <p:sp>
          <p:nvSpPr>
            <p:cNvPr id="111" name=""/>
            <p:cNvSpPr/>
            <p:nvPr/>
          </p:nvSpPr>
          <p:spPr>
            <a:xfrm>
              <a:off x="4140360" y="3284640"/>
              <a:ext cx="3744720" cy="3384360"/>
            </a:xfrm>
            <a:prstGeom prst="ellipse">
              <a:avLst/>
            </a:prstGeom>
            <a:solidFill>
              <a:srgbClr val="9999ff">
                <a:alpha val="47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ネットワーク社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835280" y="3357360"/>
              <a:ext cx="4176720" cy="3311280"/>
            </a:xfrm>
            <a:prstGeom prst="ellipse">
              <a:avLst/>
            </a:prstGeom>
            <a:solidFill>
              <a:srgbClr val="ccffff">
                <a:alpha val="4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現実社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架空請求と迷惑メー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84560" y="5451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1979640" y="1989000"/>
            <a:ext cx="5329080" cy="2592360"/>
            <a:chOff x="1979640" y="1989000"/>
            <a:chExt cx="5329080" cy="2592360"/>
          </a:xfrm>
        </p:grpSpPr>
        <p:sp>
          <p:nvSpPr>
            <p:cNvPr id="116" name=""/>
            <p:cNvSpPr/>
            <p:nvPr/>
          </p:nvSpPr>
          <p:spPr>
            <a:xfrm>
              <a:off x="1979640" y="1989000"/>
              <a:ext cx="5329080" cy="2592360"/>
            </a:xfrm>
            <a:prstGeom prst="rect">
              <a:avLst/>
            </a:prstGeom>
            <a:solidFill>
              <a:srgbClr val="969696">
                <a:alpha val="49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2340000">
              <a:off x="2411280" y="3139560"/>
              <a:ext cx="2089440" cy="431640"/>
            </a:xfrm>
            <a:prstGeom prst="rect">
              <a:avLst/>
            </a:prstGeom>
            <a:solidFill>
              <a:srgbClr val="ffff00">
                <a:alpha val="42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架空請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521800">
              <a:off x="4643280" y="2852280"/>
              <a:ext cx="2016000" cy="431640"/>
            </a:xfrm>
            <a:prstGeom prst="rect">
              <a:avLst/>
            </a:prstGeom>
            <a:solidFill>
              <a:srgbClr val="9999ff">
                <a:alpha val="47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高額請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rot="19756800">
              <a:off x="3419280" y="2636280"/>
              <a:ext cx="1871640" cy="432000"/>
            </a:xfrm>
            <a:prstGeom prst="rect">
              <a:avLst/>
            </a:prstGeom>
            <a:solidFill>
              <a:srgbClr val="00ff00">
                <a:alpha val="4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迷惑メール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20746800">
              <a:off x="3059280" y="3860280"/>
              <a:ext cx="1726920" cy="360360"/>
            </a:xfrm>
            <a:prstGeom prst="rect">
              <a:avLst/>
            </a:prstGeom>
            <a:solidFill>
              <a:srgbClr val="ff99cc">
                <a:alpha val="4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ワン切り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19909800">
              <a:off x="4930920" y="3573000"/>
              <a:ext cx="1800000" cy="360360"/>
            </a:xfrm>
            <a:prstGeom prst="rect">
              <a:avLst/>
            </a:prstGeom>
            <a:solidFill>
              <a:srgbClr val="99ccff">
                <a:alpha val="42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嫌がらせ電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403280" y="1628640"/>
            <a:ext cx="1224000" cy="11908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835280" y="4941720"/>
            <a:ext cx="2952720" cy="1572120"/>
          </a:xfrm>
          <a:prstGeom prst="rect">
            <a:avLst/>
          </a:prstGeom>
          <a:solidFill>
            <a:srgbClr val="00ff00">
              <a:alpha val="44000"/>
            </a:srgbClr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電子消費者契約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民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利息制限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003640" y="5589720"/>
            <a:ext cx="648000" cy="431640"/>
          </a:xfrm>
          <a:prstGeom prst="rightArrow">
            <a:avLst>
              <a:gd name="adj1" fmla="val 50000"/>
              <a:gd name="adj2" fmla="val 37531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452640" y="4941720"/>
            <a:ext cx="1826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裁判所の通達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明らかに自分の行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による請求以外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無視でき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ページ開設時の法的注意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26920" y="2707920"/>
            <a:ext cx="7871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知的財産権の侵害に注意しよう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名誉毀損や部弱財に注意しよう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著作物の引用条件を確認しよう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ページのリンク（同一性の保持）に注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詐欺や虚偽行為がないか確認しよう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その他宗教・民族・人種差別に注意しよう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政治問題も注意が必要であ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912680" y="1844640"/>
            <a:ext cx="5051520" cy="520560"/>
          </a:xfrm>
          <a:prstGeom prst="rect">
            <a:avLst/>
          </a:prstGeom>
          <a:solidFill>
            <a:srgbClr val="9999ff">
              <a:alpha val="32000"/>
            </a:srgbClr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Web</a:t>
            </a:r>
            <a:r>
              <a:rPr b="0" lang="zh-CN" sz="2800" spc="-1" strike="noStrike">
                <a:solidFill>
                  <a:srgbClr val="00007d"/>
                </a:solidFill>
                <a:latin typeface="Arial"/>
              </a:rPr>
              <a:t>ページは全世界の人から見られています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4356000" y="1773360"/>
            <a:ext cx="4608720" cy="2950920"/>
          </a:xfrm>
          <a:prstGeom prst="rect">
            <a:avLst/>
          </a:prstGeom>
          <a:solidFill>
            <a:srgbClr val="ffff99">
              <a:alpha val="4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ファイル共有の法的問題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26920" y="3860640"/>
            <a:ext cx="1152720" cy="1297080"/>
          </a:xfrm>
          <a:prstGeom prst="rect">
            <a:avLst/>
          </a:prstGeom>
          <a:solidFill>
            <a:srgbClr val="99cc00">
              <a:alpha val="4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じゃが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763640" y="5516640"/>
            <a:ext cx="1295640" cy="288720"/>
          </a:xfrm>
          <a:custGeom>
            <a:avLst/>
            <a:gdLst>
              <a:gd name="textAreaLeft" fmla="*/ 226800 w 1295640"/>
              <a:gd name="textAreaRight" fmla="*/ 939600 w 1295640"/>
              <a:gd name="textAreaTop" fmla="*/ 38520 h 288720"/>
              <a:gd name="textAreaBottom" fmla="*/ 25020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484360" y="3860640"/>
            <a:ext cx="1152720" cy="1297080"/>
          </a:xfrm>
          <a:prstGeom prst="rect">
            <a:avLst/>
          </a:prstGeom>
          <a:solidFill>
            <a:srgbClr val="99cc00">
              <a:alpha val="4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じゃが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035440" y="58770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コピ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39640" y="2565360"/>
            <a:ext cx="3527640" cy="459720"/>
          </a:xfrm>
          <a:prstGeom prst="rect">
            <a:avLst/>
          </a:prstGeom>
          <a:solidFill>
            <a:srgbClr val="99ccff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デジタルコンテンツは簡単にコピーできてしま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20480" y="206064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私的利用の範囲内の複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008400" y="306864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私的以外の複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500440" y="378936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著作権者の複製権の侵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643280" y="2133720"/>
            <a:ext cx="43200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4788000" y="3141720"/>
            <a:ext cx="360360" cy="358560"/>
            <a:chOff x="4788000" y="3141720"/>
            <a:chExt cx="360360" cy="358560"/>
          </a:xfrm>
        </p:grpSpPr>
        <p:sp>
          <p:nvSpPr>
            <p:cNvPr id="141" name=""/>
            <p:cNvSpPr/>
            <p:nvPr/>
          </p:nvSpPr>
          <p:spPr>
            <a:xfrm flipV="1">
              <a:off x="4788000" y="3141720"/>
              <a:ext cx="360360" cy="35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788000" y="3141720"/>
              <a:ext cx="360360" cy="35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6372360" y="3573360"/>
            <a:ext cx="64764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99">
              <a:alpha val="5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458680" y="5373720"/>
            <a:ext cx="2009520" cy="825480"/>
          </a:xfrm>
          <a:prstGeom prst="rect">
            <a:avLst/>
          </a:prstGeom>
          <a:solidFill>
            <a:srgbClr val="ff9900">
              <a:alpha val="49000"/>
            </a:srgbClr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現在では「ファイル共有ソフト」自体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違法性が問われてい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インターネットと著作権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018880" y="1844640"/>
            <a:ext cx="5301360" cy="520560"/>
          </a:xfrm>
          <a:prstGeom prst="rect">
            <a:avLst/>
          </a:prstGeom>
          <a:solidFill>
            <a:srgbClr val="ccffff">
              <a:alpha val="4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インターネット上の画像や文字は手軽にコピーでき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763640" y="2421000"/>
            <a:ext cx="5472360" cy="29829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2039400" y="5589720"/>
            <a:ext cx="5301360" cy="520560"/>
          </a:xfrm>
          <a:prstGeom prst="rect">
            <a:avLst/>
          </a:prstGeom>
          <a:solidFill>
            <a:srgbClr val="ff0000">
              <a:alpha val="42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著作権の侵害が起こりやすいという問題を含んでい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著作物と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324000" y="2708280"/>
          <a:ext cx="8497800" cy="3032280"/>
        </p:xfrm>
        <a:graphic>
          <a:graphicData uri="http://schemas.openxmlformats.org/drawingml/2006/table">
            <a:tbl>
              <a:tblPr/>
              <a:tblGrid>
                <a:gridCol w="2906640"/>
                <a:gridCol w="5591160"/>
              </a:tblGrid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言語の著作物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論文、小説、脚本、詩歌、俳句、講演など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音楽の著作物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楽曲、楽曲を伴う歌詞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プログラムの著作物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コンピュータ・プログラム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二次的著作物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上表の著作物（原著作物）を翻訳、編曲、変形、翻案し作成したもの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編集著作物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百科事典、辞書、詩集などの編集物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84800" y="5877000"/>
            <a:ext cx="530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著作物には、上記の表のもの以外にも、舞踊やパントマイム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写真、データベースなどがあ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832200" y="1773360"/>
            <a:ext cx="140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著作物とは、著作人格者（個人・法人）が作り出した物や動き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編集物などのものがある。具体的には下記のものがあ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著作権者に許諾を必要としないも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0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保管期間が過ぎているも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私的利用の範囲内で、契約違反でないも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図書館での非営利的なコピ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事実のみを伝達する報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憲法や法令な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173320" y="5229360"/>
            <a:ext cx="5118480" cy="1191240"/>
          </a:xfrm>
          <a:prstGeom prst="rect">
            <a:avLst/>
          </a:prstGeom>
          <a:solidFill>
            <a:srgbClr val="ccffcc">
              <a:alpha val="3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※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ただしインターネット上で２～４を公開する場合、別途許諾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必要なる場合が多い。特に私的利用や図書館のコピー物は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許諾が必要であ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著作物の引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50920" y="1980720"/>
            <a:ext cx="86421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著作物の引用は、下記の範囲であれば認められてい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許諾を必要とする場合もあ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財産権を犯さない範囲というのが前提であ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468360" y="4653000"/>
          <a:ext cx="8229600" cy="164628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54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主従関係を明確にす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</a:tr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出典を明らかにす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</a:tr>
              <a:tr h="54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本文と引用部分がわかるようにす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3T05:15:44Z</dcterms:created>
  <dc:creator>T.Yamazumi</dc:creator>
  <dc:description/>
  <dc:language>en-US</dc:language>
  <cp:lastModifiedBy>湯浅　聖記</cp:lastModifiedBy>
  <dcterms:modified xsi:type="dcterms:W3CDTF">2006-01-09T12:32:44Z</dcterms:modified>
  <cp:revision>90</cp:revision>
  <dc:subject/>
  <dc:title>ネットワーク社会の 情報倫理</dc:title>
</cp:coreProperties>
</file>