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BBEDC-AB32-4CF5-A6AF-6541950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ADCE-2E31-495C-9EA6-C278B2E7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2622-56AF-4F58-B20E-378CE751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331C-4C43-408E-AD3E-0A020E66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350A-6D02-42E8-8908-DE2CE7C4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F98-86DF-4C50-81BC-FD3CFC7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65B7-544D-41DB-8DC0-608D33B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8D4F-F088-4C45-A601-6C51E2A5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0642-F89D-4AA7-B397-8221153F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14B7-9202-4876-B2BD-B0E1B3A8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4D3A-708A-4BE6-9FE5-2066D3A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8EFD-FF1F-42C2-8B00-C841850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217-1ECA-4CA8-982E-18C4913D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BF4-E66D-4898-95D3-3A028F7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AB79-E316-41EB-B277-2B590B32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3827-9D6F-4934-A686-1D69B2D0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D32B-EFB4-4ECA-9B77-F4B631BB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9B3A-428D-4780-A789-06FD66D7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9F17-BC75-4D35-9F47-7DA45096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D8E0-8469-497C-BD72-E59B895A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1798-EFB9-4AE8-87F8-5B5CD564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558C-430C-4DD8-A249-929227D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671D-C6B3-42DB-A495-EAC97F38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93CE5-A721-4E50-B174-6541387D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E3CD-14A7-4548-9924-4E7E5D4D0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9576-39CD-4C0A-9340-9154AAE70B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５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情報セキュリティ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情報セキュリティ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3384360" cy="100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の盗聴・改ざ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4607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6021360"/>
            <a:ext cx="810108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コンピュータやネットワークにおける安全性や信頼性の確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060640"/>
            <a:ext cx="3456000" cy="52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ワーク上の脅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3933720"/>
            <a:ext cx="33116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4724280"/>
            <a:ext cx="2881440" cy="10159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4076640"/>
            <a:ext cx="3240000" cy="581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セキュリテ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1.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情報セキュリティに求められるも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916280"/>
            <a:ext cx="2880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機密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21000"/>
            <a:ext cx="590400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報の保存および伝達の安全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2637000"/>
            <a:ext cx="720108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7632720" cy="10159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・通信の過程において、データの改ざんや盗聴から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セキュリティの運用につい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89000"/>
            <a:ext cx="266364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術的な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365720"/>
            <a:ext cx="23032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ＭＳ Ｐゴシック"/>
              </a:rPr>
              <a:t>運用の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5229360"/>
            <a:ext cx="5689440" cy="86256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2133720"/>
            <a:ext cx="5977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4508640"/>
            <a:ext cx="5545080" cy="398880"/>
          </a:xfrm>
          <a:prstGeom prst="rect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ユーザ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5329080" cy="703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正規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ユーザ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と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管理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」の区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61040" y="836640"/>
            <a:ext cx="210348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4221000"/>
          <a:ext cx="8229600" cy="2236680"/>
        </p:xfrm>
        <a:graphic>
          <a:graphicData uri="http://schemas.openxmlformats.org/drawingml/2006/table">
            <a:tbl>
              <a:tblPr/>
              <a:tblGrid>
                <a:gridCol w="2695680"/>
                <a:gridCol w="2838240"/>
                <a:gridCol w="2695680"/>
              </a:tblGrid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操作がやさし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紛失、盗難、偽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偽造されにく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システムが高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95280" y="1916280"/>
            <a:ext cx="4319640" cy="5814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＝本人確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573360"/>
            <a:ext cx="1368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789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パスワード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4149720"/>
            <a:ext cx="4032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に対する推定攻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724280"/>
            <a:ext cx="388944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辞書単語をそのまま使わ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724280"/>
            <a:ext cx="3816360" cy="1789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4149720"/>
            <a:ext cx="395928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ソーシャル・エンジニアリン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24000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50920" y="1773360"/>
            <a:ext cx="4825800" cy="1326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推定されにくいパスワード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3573360"/>
            <a:ext cx="309528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パスワードを破る手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ードによる認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773360"/>
            <a:ext cx="5400720" cy="520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ユーザの所持品による認証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997360"/>
            <a:ext cx="6408720" cy="862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365720"/>
            <a:ext cx="266400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カードの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11280" y="4941720"/>
            <a:ext cx="5545440" cy="157212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磁気カードよりも偽造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暗証番号との組み合わせで認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総当たり攻撃に対してはカードを無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421000"/>
            <a:ext cx="2952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気カード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3068640"/>
            <a:ext cx="1009440" cy="1152360"/>
          </a:xfrm>
          <a:prstGeom prst="downArrow">
            <a:avLst>
              <a:gd name="adj1" fmla="val 50000"/>
              <a:gd name="adj2" fmla="val 2854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生体認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3933360"/>
            <a:ext cx="1440000" cy="2592360"/>
          </a:xfrm>
          <a:prstGeom prst="rect">
            <a:avLst/>
          </a:prstGeom>
          <a:noFill/>
          <a:ln w="28440">
            <a:solidFill>
              <a:srgbClr val="ff66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449440" cy="2135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5640" y="1844640"/>
            <a:ext cx="511164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357720"/>
            <a:ext cx="2376360" cy="45972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種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81360"/>
            <a:ext cx="5040000" cy="132624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005360"/>
            <a:ext cx="2376360" cy="459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体認証の特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ファイアウォ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229600" cy="338148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2987640" y="278136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7128000" cy="9842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5-12-13T00:15:25Z</dcterms:modified>
  <cp:revision>38</cp:revision>
  <dc:subject/>
  <dc:title>ネットワーク社会の 情報倫理</dc:title>
</cp:coreProperties>
</file>