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A14E4-8BEB-4A91-B6A1-88FD9A44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6BE8B-DEB8-455F-995B-E253F66B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06C05-5413-4100-ACE8-383C306D7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4BE50-B07C-40AB-93AA-6410FF605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9D94-9C6F-4C2C-91C3-658F41C2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F4AE-FEAD-4FF6-8DB9-DC03C51A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FC89-94F0-4882-ACF0-E411B618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03F5-FC75-4E3B-92CA-AAF222F4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5EE5-7C77-4C8F-BEC1-0FFCA785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BB44-CE47-4475-99B9-15570B53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5743-3854-4D4D-AE3F-8D00DB8B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B1C6A-D2FF-4D1B-9E8E-3F13F36D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5DE8-0873-4746-9CD7-4A79018B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ACDD-73DD-437D-9C52-7F1FDF1A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CE8F-9DD5-4C4F-A245-5318E45D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AB58-7E2E-4228-AAF0-8C52BF93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8CE0-2F32-4DB7-8A55-1633CCCFD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ACA45-C694-4159-9D53-4D1B6A24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74300-11A0-45D1-BAE1-9BDD6A9E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7C329-EAD9-4A97-96CF-6E087B76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DE9DC-F85B-4EBB-A3DB-5D20BC02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5D059-4C0B-4FBF-8740-7725FDF8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203E7-351C-44D9-88E3-3B96763D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4C96C-C738-405A-9088-B96CD54E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3878-25E9-4638-9731-242E8C18F7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CA88-F147-4596-B67A-50A27EC186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３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ネットワーク犯罪（前半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　　　　　　　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ワン切りと不正請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2924280"/>
            <a:ext cx="5040360" cy="4597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かけ直すと自分の番号を知られる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1773360"/>
            <a:ext cx="3889440" cy="5814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ワン切り（番号通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6000" y="242100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651640" y="2349360"/>
            <a:ext cx="3031920" cy="2152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68360" y="4005360"/>
            <a:ext cx="4248000" cy="1015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正請求！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架空の有料サイトなど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56000" y="3500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ワン切りに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絶対に応じな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不正な請求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すべて無視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.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カメラ付き携帯による被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76360" y="1844640"/>
            <a:ext cx="6048360" cy="101592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静止画や動画の撮影機能が付いた携帯電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撮影機能を悪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00720" y="2924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03280" y="3429000"/>
            <a:ext cx="6337440" cy="144144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交際相手に恥ずかしい写真を撮ら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写真を掲示板にアップロードされ中傷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被害は一瞬で広がるの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相手の気持ちを考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撮影機能を悪用し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４　ネット詐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63640" y="4581360"/>
            <a:ext cx="5400720" cy="16560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代金の騙し取り＝ネット詐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ネットショッピ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ネットオーク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58920" y="1916280"/>
            <a:ext cx="6624720" cy="1512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宅からインターネット上を介し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カタログ通販やオークションを手軽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64000" y="3645000"/>
            <a:ext cx="1800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4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ネットショッピン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00720" y="1700280"/>
            <a:ext cx="3527280" cy="5814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商品の確認が困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95640" y="2924280"/>
            <a:ext cx="4824360" cy="5814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代金の支払い（振り込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5640" y="1700280"/>
            <a:ext cx="3672000" cy="5814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画面で判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4149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品物が送られてこない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00720" y="242100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00720" y="364500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5300640"/>
            <a:ext cx="2953080" cy="1152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店舗の実績を確認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59280" y="5300640"/>
            <a:ext cx="3024360" cy="1152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取り引きの証拠を残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4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ネットオークショ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9640" y="1919520"/>
            <a:ext cx="4321440" cy="459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古品を出品　→　落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68360" y="3284640"/>
            <a:ext cx="65516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高額なもの（宝石・貴金属や自動車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8360" y="3789360"/>
            <a:ext cx="65516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個人の趣味で収集した入手困難なも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19040" y="2568960"/>
            <a:ext cx="2800440" cy="459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最終的にユーザ同士の取り引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68360" y="4797360"/>
            <a:ext cx="65516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盗品、毒薬、銃刀類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犯罪に巻き込まれ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50920" y="3284640"/>
            <a:ext cx="73080" cy="2016000"/>
          </a:xfrm>
          <a:custGeom>
            <a:avLst/>
            <a:gdLst>
              <a:gd name="textAreaLeft" fmla="*/ 21240 w 73080"/>
              <a:gd name="textAreaRight" fmla="*/ 73440 w 73080"/>
              <a:gd name="textAreaTop" fmla="*/ 83880 h 2016000"/>
              <a:gd name="textAreaBottom" fmla="*/ 193212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取り引きする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犯罪になるものに注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0072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詐欺に備え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取り引きの証拠を残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08720" y="2205000"/>
            <a:ext cx="3166920" cy="8625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中古品＝古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古物営業法（第６章）も参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4360" y="400536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古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4292640"/>
            <a:ext cx="65516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家電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本、ゲーム、衣類、食品、チケット・・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５　知的財産権の侵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76000" y="4508640"/>
            <a:ext cx="6049800" cy="194472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著作権侵害となるケースに注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デジタルデータと著作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ファイル共有ソフ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26920" y="1989000"/>
            <a:ext cx="4535640" cy="1513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デジタルデータはすべ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ファイル単位で扱われ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0360" y="2349360"/>
            <a:ext cx="2592360" cy="79236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ピーが容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64000" y="270828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64000" y="3645000"/>
            <a:ext cx="1800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１　ネット犯罪の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1471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ネット犯罪の種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個人情報の流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携帯電話による犯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ネット詐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知的財産権の侵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子メールを利用した犯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誹謗中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正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公序良俗に反する情報の公開・配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違法販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殺ほう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ねずみ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3981600" cy="2254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ネットワーク犯罪の特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773360"/>
            <a:ext cx="8136000" cy="107928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時間と空間に関係なく起こり、一瞬にして世界中に広ま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2997360"/>
            <a:ext cx="3961080" cy="151128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国境が無いた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法律・規制から逃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2997360"/>
            <a:ext cx="3887640" cy="151128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年齢性別によら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トラブルに巻き込ま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4653000"/>
            <a:ext cx="3887640" cy="1440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ネットワークで身を隠せ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軽い気持ちで犯罪を犯す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43280" y="4653000"/>
            <a:ext cx="3961080" cy="1440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被害者と加害者の識別が困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被害者のはずが加害者に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２　個人情報の流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71280" y="4941360"/>
            <a:ext cx="3457800" cy="129564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正な情報流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正な情報収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133720"/>
            <a:ext cx="6337080" cy="1726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ネット上で個人情報を入力する機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・カード番号やパスワード    ： 電子商取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・メールや住所等の連絡先  ： 懸賞、アンケ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64000" y="4076640"/>
            <a:ext cx="1800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2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不正な情報流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1844640"/>
            <a:ext cx="4392720" cy="12240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個人情報を収集した側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管理責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03280" y="2060640"/>
            <a:ext cx="3529080" cy="93672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ライバシーが侵害さ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流出した情報を悪用さ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会的信用が失墜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04000" y="1052640"/>
            <a:ext cx="1944720" cy="1008000"/>
          </a:xfrm>
          <a:prstGeom prst="irregularSeal1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流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3429000"/>
            <a:ext cx="4103640" cy="136836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１）内部の人間が機密情報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正に持ち出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3429000"/>
            <a:ext cx="4032000" cy="136836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２）部外者に情報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盗難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5445000"/>
            <a:ext cx="4176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機密情報に関し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組織内のルール策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8000" y="5445000"/>
            <a:ext cx="410508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パスワードやＰＣ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盗難に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5013360"/>
            <a:ext cx="1800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40360" y="5013360"/>
            <a:ext cx="180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2.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不正な情報収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1916280"/>
            <a:ext cx="3024360" cy="865080"/>
          </a:xfrm>
          <a:prstGeom prst="parallelogram">
            <a:avLst>
              <a:gd name="adj" fmla="val 14680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フィッシ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71640" y="3789360"/>
            <a:ext cx="1800000" cy="1252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236000" y="1484280"/>
            <a:ext cx="1296720" cy="1068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V="1">
            <a:off x="2987640" y="3284640"/>
            <a:ext cx="107964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328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偽装メール（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867280" y="2276640"/>
            <a:ext cx="1297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2997360"/>
            <a:ext cx="1081080" cy="7920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88360" y="263700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本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350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偽装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140360" y="1844640"/>
            <a:ext cx="1949400" cy="1509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flipH="1">
            <a:off x="6300360" y="2492280"/>
            <a:ext cx="360360" cy="432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0720" y="2492280"/>
            <a:ext cx="358920" cy="3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32360" y="335772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リ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4724280"/>
            <a:ext cx="2952720" cy="703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ンケートフォームなどで個人情報を釣り上げ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6732720" y="3933720"/>
            <a:ext cx="2089080" cy="17082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619280" y="5950080"/>
            <a:ext cx="6119640" cy="459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本サイトと偽装サイトの</a:t>
            </a: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UR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をチェック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2.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クロスサイト・スクリプティン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16000" y="4292640"/>
            <a:ext cx="1800360" cy="1252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042920" y="2133720"/>
            <a:ext cx="1949400" cy="1509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940360" y="2205000"/>
            <a:ext cx="2089080" cy="1708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3995640" y="3141720"/>
            <a:ext cx="1297080" cy="10684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987640" y="2997360"/>
            <a:ext cx="100800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859280" y="3141720"/>
            <a:ext cx="100800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843280" y="3860280"/>
            <a:ext cx="115236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16360" y="4724280"/>
            <a:ext cx="2665440" cy="39888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ページ内容の書き換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48360" y="3860640"/>
            <a:ext cx="2374920" cy="459720"/>
          </a:xfrm>
          <a:prstGeom prst="rect">
            <a:avLst/>
          </a:prstGeom>
          <a:solidFill>
            <a:srgbClr val="cccce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別サイトへ誘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32000" y="2421000"/>
            <a:ext cx="1366920" cy="4597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03280" y="5950080"/>
            <a:ext cx="6120000" cy="398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ブラウザでスクリプトの実行を許可すると危険がともなう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３　携帯電話による犯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050920" y="4365720"/>
            <a:ext cx="4896000" cy="200664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出会い系サイ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ワン切りと不正請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カメラ付携帯による被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92360" y="1844640"/>
            <a:ext cx="5832360" cy="172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メール・ブラウジングな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と同等の機能で犯罪も多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3645000"/>
            <a:ext cx="1800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692360" y="3933720"/>
            <a:ext cx="5904000" cy="12956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.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出会い系サイ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42920" y="1773360"/>
            <a:ext cx="2519280" cy="82548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新しい友人を作るための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42920" y="2924280"/>
            <a:ext cx="2665440" cy="82548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銭目的の少女と大人が児童買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59280" y="1773360"/>
            <a:ext cx="3384720" cy="82548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</a:rPr>
              <a:t>アクセスのほぼ１００％が携帯電話か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59280" y="2924280"/>
            <a:ext cx="3384720" cy="825480"/>
          </a:xfrm>
          <a:prstGeom prst="rect">
            <a:avLst/>
          </a:prstGeom>
          <a:solidFill>
            <a:srgbClr val="cc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携帯電話の番号通知で本人を認証させ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79640" y="40766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男性の被害：金品を強奪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79640" y="45813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ＭＳ Ｐゴシック"/>
              </a:rPr>
              <a:t>女性の被害：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ＭＳ Ｐゴシック"/>
              </a:rPr>
              <a:t>歳未満の少女が児童買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95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43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5445000"/>
            <a:ext cx="396072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知り合って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軽い気持ちで会わな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16360" y="5445000"/>
            <a:ext cx="3888000" cy="10083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犯罪の温床とならないよ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慎重かつ分別ある行動を！</a:t>
            </a:r>
            <a:r>
              <a:rPr b="0" lang="en-US" sz="20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0T04:13:02Z</dcterms:created>
  <dc:creator>T.Yamazumi</dc:creator>
  <dc:description/>
  <dc:language>en-US</dc:language>
  <cp:lastModifiedBy>図書情報センター</cp:lastModifiedBy>
  <dcterms:modified xsi:type="dcterms:W3CDTF">2005-12-09T01:19:53Z</dcterms:modified>
  <cp:revision>64</cp:revision>
  <dc:subject/>
  <dc:title>ネットワーク社会の情報倫理</dc:title>
</cp:coreProperties>
</file>