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CFE4-2AA0-4A0C-B523-839E5B2B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C5EB-99D7-4DB1-BA2D-64FE24A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9B93-88B7-494A-A575-B37B67D2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8E1A-0C34-4961-A2CF-8FF9C30B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D11-325A-4313-B7C2-1705238A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29D6-5FDA-41D1-B36E-B3700045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7E3-1178-4FEF-879F-3C7AB51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510-B2CA-4A63-B461-77686174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6DBB-44F3-42D8-9290-436CE0CC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137-AB7A-405F-AE4E-25A3D855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28AE-37DB-4398-A970-C3D1B0AB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8F50-EE7B-43CE-8CDE-68F281DE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FBF3-B8CA-41B8-B587-3DF96AFB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2288-1B1B-4C2D-A7A8-EB9CF57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6AA8-DD2B-44D9-81E6-B0118A98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EED0-D888-4644-B728-A586D1B6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94C3-5CEE-4DBD-996E-1DFC1F5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BFB8-CE05-42D9-AF7B-29DF8B5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E703-1D15-4516-92A2-C2F6E3FB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4090B-052C-4F66-AD6D-D6D9EE9D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DA06-2F86-4BE1-8D59-69C8EB9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8721-19A5-422A-9CDF-20DD696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4358D-BE04-4549-92A9-0C6D10F7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24F1-6FED-4E1D-8A16-3BE25C0C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1D1C-F33F-4A4B-BB9E-5FE0C911D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3E19-7231-4F15-BC37-AB90D95F4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４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7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携帯電話に感染するウィル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561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フリーズメール（電卓機能を繰り返し使わせ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強制発信メール（特定の番号に発信す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32720" y="1413000"/>
            <a:ext cx="1261800" cy="25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1844640"/>
            <a:ext cx="511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いたずら・いやがらせ目的の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3141720"/>
            <a:ext cx="165564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3933720"/>
            <a:ext cx="8675640" cy="520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世界初の携帯電話に感染するウィルス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　「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Cabir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」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(2004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4508640"/>
            <a:ext cx="7632720" cy="2128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定の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S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搭載する携帯電話に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感染すると“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Caribe”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ピラニア）というメッセージを表示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分のコピーを他のデバイスへ送信する（ワーム活動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dafone 702N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（日本）にも感染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個人ユーザ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84720" y="1844640"/>
            <a:ext cx="2357640" cy="2592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3573360"/>
            <a:ext cx="424800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．ウィルス対策ソフトの導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4869000"/>
            <a:ext cx="41054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２．ウィルス対策ソフトの更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734080"/>
            <a:ext cx="4535640" cy="459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やブラウザなどの更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220500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メールの添付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やブラウザなどのセキュリティホ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700280"/>
            <a:ext cx="2233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な感染経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" y="4005360"/>
            <a:ext cx="5329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ターネット接続の前に、インスト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外部から持ち込んだファイルの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300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定義ファイルを最新版にアップデートし、新種・亜種のウィルスに対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2997360"/>
            <a:ext cx="216072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6237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修正ファイルをダウンロードしアップデート（自動更新機能の設定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組織としての対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773360"/>
            <a:ext cx="4681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複数の人が同じコンピュータを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共通領域にあるファイルを共同で使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1773360"/>
            <a:ext cx="28814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ウィルスが広がると、甚大な被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2781360"/>
            <a:ext cx="2160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50028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１．ネットワーク全体に対するウィルスチェッ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157720"/>
            <a:ext cx="3600360" cy="3988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２．メディアやノートパソコンの持ち出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92720" y="3500280"/>
            <a:ext cx="2664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感染した際の対策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4221000"/>
            <a:ext cx="3600360" cy="846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送受信されるデータのスキャ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ファイアウォールの設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950080"/>
            <a:ext cx="360036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私物のコンピュータやメディアもウィルスチェ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076640"/>
            <a:ext cx="4068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１．コンピュータをネッから切り離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２．被害状況を確認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３．ウィルスを駆除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４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等の機関に連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有害なプログラ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8560" y="4149360"/>
            <a:ext cx="4319640" cy="21589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・アドウェ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マウィル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03840" y="278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060640"/>
            <a:ext cx="7632720" cy="119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マルウェア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al-ware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→　有害なプログラムの総称　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悪意を持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3640" y="3716280"/>
            <a:ext cx="210024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3429000"/>
            <a:ext cx="3240000" cy="64764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マルウェア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コンピュータウィル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4221000"/>
            <a:ext cx="7777080" cy="1656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自分の複製をコピーし、増殖する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潜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ある条件を満たすまで活動せず潜む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発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ウィルスの目的とする有害な活動を行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429000"/>
            <a:ext cx="4895640" cy="7192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67400" y="1413000"/>
            <a:ext cx="227196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6021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３つのうち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少なくとも１つの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を持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133720"/>
            <a:ext cx="6048360" cy="1015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気づかぬ間にコンピュータへ忍び込む（感染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か悪さをしたり、自己増殖して広めた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コンピュータウィルスの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424720" cy="4902480"/>
        </p:xfrm>
        <a:graphic>
          <a:graphicData uri="http://schemas.openxmlformats.org/drawingml/2006/table">
            <a:tbl>
              <a:tblPr/>
              <a:tblGrid>
                <a:gridCol w="1706400"/>
                <a:gridCol w="2568600"/>
                <a:gridCol w="414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染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実行形式ファイル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を介して広まった初期型のウィルス（８０年代～）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型ウィルスとして現存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ブートセクタ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HD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システム領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ステム領域に感染し、ＰＣの起動時に活動してコントロールを奪う。８０年代に登場し亜種が現存する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マクロ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のデータファイ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とアプリケーションソフ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として電子メールに添付ファイルを介して感染が広まる。作成・改変が比較的容易なため亜種が多く存在する。 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ペー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e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閲覧時にマルチメディアコンテンツの実行で感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ctiveX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コントロール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プレッ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VB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JavaScript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等のスクリプトに組み込まれる。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９０年代後半～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ワー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280" y="4797360"/>
            <a:ext cx="4762440" cy="16574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害プログラムの１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増殖機能をも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のファイルに感染しな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2000" y="3789360"/>
            <a:ext cx="2425680" cy="27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628640"/>
            <a:ext cx="6626160" cy="2096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の添付ファイルとして自己増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のファイルには寄生しない点でウィルスと区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スクリプト言語やマクロで比較的容易に作成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つのワームを退治しても、亜種が出現す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05360"/>
            <a:ext cx="5257800" cy="576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ワームの定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芋虫のような幼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トロイの木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7416720" cy="984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トロイの木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一見無害に思えるものが、中に入れた途端に悪さをするという意味。 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語源：ホメロスの叙事詩「イーリアス」よ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00720" y="3068640"/>
            <a:ext cx="2600280" cy="2146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213000"/>
            <a:ext cx="4895640" cy="574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トロイの木馬型ウィルスの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3860280"/>
            <a:ext cx="6049800" cy="129564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般のソフトウェアに見せかけ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悪意のある仕掛けが組み込まれてい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感染や自己増殖機能は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373720"/>
            <a:ext cx="237636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877000"/>
            <a:ext cx="8280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トロイの木馬が感染した大量のコンピュータから特定のサーバに対してメールなどを一斉に送信し、サーバの機能を停止させてしまう攻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スパイウェア・アドウェ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220500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個人情報の収集目的で、一般のアプリケーションと共に配布されるプログラム。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インストール時に、スパイウェアも組み込まれる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557360"/>
            <a:ext cx="288144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スパイ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4292640"/>
            <a:ext cx="2736720" cy="5745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ウェア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4941720"/>
            <a:ext cx="8209080" cy="459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ユーザの画面上に特定の宣伝広告を表示させるためのプログラム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企業のマーケティング／宣伝活動に使われる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141720"/>
            <a:ext cx="7632720" cy="86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インストール時に利用に関する承諾画面が表示されるものがあ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バックグラウンドで情報を盗み出す。 （気が付きにく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877000"/>
            <a:ext cx="763272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のアクセス履歴やユーザのコンピュータに関する情報を記録し送信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ウィルスの届出件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844640"/>
          <a:ext cx="5208480" cy="38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2084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724360" y="1989000"/>
            <a:ext cx="3024360" cy="1233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届出件数：増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インターネットで猛威をふるうウィルスの出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届出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は一般法人か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3789360"/>
            <a:ext cx="3024360" cy="8161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実際の感染：減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個人のパソコンやプロバイダでのウィルス対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7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感染経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700280"/>
          <a:ext cx="8229600" cy="3895560"/>
        </p:xfrm>
        <a:graphic>
          <a:graphicData uri="http://schemas.openxmlformats.org/drawingml/2006/table">
            <a:tbl>
              <a:tblPr/>
              <a:tblGrid>
                <a:gridCol w="2016000"/>
                <a:gridCol w="1511280"/>
                <a:gridCol w="1584360"/>
                <a:gridCol w="1563840"/>
                <a:gridCol w="1554120"/>
              </a:tblGrid>
              <a:tr h="46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感染経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0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届出件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割合（％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電子メー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4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ネットワー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ブラウジン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外部メディ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不明・その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合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4,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ＭＳ 明朝"/>
                          <a:ea typeface="ＭＳ 明朝"/>
                        </a:rPr>
                        <a:t>100.0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19280" y="5661000"/>
            <a:ext cx="6048360" cy="101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大半は電子メール（添付ファイル）から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システムやブラウザの脆弱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T.Yamazumi</cp:lastModifiedBy>
  <dcterms:modified xsi:type="dcterms:W3CDTF">2005-12-15T02:08:00Z</dcterms:modified>
  <cp:revision>78</cp:revision>
  <dc:subject/>
  <dc:title>ネットワーク社会の 情報倫理</dc:title>
</cp:coreProperties>
</file>