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8CACF-A6ED-423B-901E-823B5C93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6AE00-DE26-476B-BC13-0ED24742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E081B-C586-40D7-8CC0-08D6D991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C8ED-E1A2-4E0B-9CEE-043EE4B2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33A2-B943-4206-987B-CE70F36F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75DF-795E-47B7-855B-AD79AF87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F4AA-EDE3-4C54-9C19-C09D8127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2F74-5392-4A25-AD00-6746B4E9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F7AF-F2FB-471C-8174-7CED9DD9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9814-FFDD-4086-AE9E-22ABFEAA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EE93-0002-4C01-BA58-2DC24500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1021D-6134-4335-B0B5-655C7984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450B-5943-47C7-A92A-7B906EF1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B1A0-2595-4AF0-9F0F-9DC8047A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F742-B193-4178-83A7-DB222F1F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5F98-E5E7-469B-9EA2-2E46CD43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6D9A-462E-45E3-95ED-C4ECA938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D621D-B56D-4736-B3B7-DB63F9D9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B7B8-DEA7-4E3E-9CB8-23535462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9C520-76BA-4A94-B2FF-009C4820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99A90-1128-4A9D-A777-0C08907D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BA808-2D8C-4146-A1BD-EA227F57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88D09-A2FE-42CF-B780-A6077446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DC3C8-0D30-4A00-B3D4-FAEF4047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5DA8-4362-464F-8572-6CC217DAAA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E031-9ACB-4FBE-B5A9-29E3BE0F55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ahoo.co.jp/" TargetMode="External"/><Relationship Id="rId2" Type="http://schemas.openxmlformats.org/officeDocument/2006/relationships/hyperlink" Target="http://www.google.co.jp/" TargetMode="External"/><Relationship Id="rId3" Type="http://schemas.openxmlformats.org/officeDocument/2006/relationships/hyperlink" Target="http://www.goo.ne.jp/" TargetMode="External"/><Relationship Id="rId4" Type="http://schemas.openxmlformats.org/officeDocument/2006/relationships/hyperlink" Target="http://www.infoseek.co.jp/" TargetMode="External"/><Relationship Id="rId5" Type="http://schemas.openxmlformats.org/officeDocument/2006/relationships/hyperlink" Target="http://www.wodge.biz/" TargetMode="Externa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ネットワーク社会の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第２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ネットサービスとその仕組み（前編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近代科学社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ページ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言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321080" cy="33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148360" y="2133720"/>
            <a:ext cx="3600360" cy="3398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90760" y="551664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言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47520" y="5516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716280"/>
            <a:ext cx="576360" cy="504720"/>
          </a:xfrm>
          <a:prstGeom prst="rightArrow">
            <a:avLst>
              <a:gd name="adj1" fmla="val 50000"/>
              <a:gd name="adj2" fmla="val 285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チエンジ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yahoo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google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goo.ne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フォシ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infoseek.co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検索サイト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D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wodge.bi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0560" y="1557360"/>
            <a:ext cx="552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ターネット上にあ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ページの情報を探し出すため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イトでポータルサイトとも呼ばれ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その他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ページ（ホームページ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頃盛ん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ちゃんね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本最大の電子掲示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ウェブロ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芸能人や野球選手、企業などが情報提供に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ファイル転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4032000" cy="1465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3647880" cy="2981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163880" y="2349360"/>
            <a:ext cx="246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バに保存する形式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利用する。ほかの人にサーバ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紹介しダウンロードしてもら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916280"/>
            <a:ext cx="3598920" cy="43308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ファイル転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4076640"/>
            <a:ext cx="3598920" cy="432000"/>
          </a:xfrm>
          <a:prstGeom prst="rect">
            <a:avLst/>
          </a:prstGeom>
          <a:solidFill>
            <a:srgbClr val="ff990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inn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よるファイル共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40560" y="46594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クライアント同士で直接通信し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を共有しあう方式であ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インターネットで提供されるサービ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ミュニケ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子メール、チャット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電話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報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チエンジ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音楽と映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音楽配信、ビデオオンデマンド、ライブ映像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電子商取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インターネットショッピング、ネットオークション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を支える仕組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3908520" cy="3825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00380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サーバ管理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14720" y="537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サーバ利用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50040" y="486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7d"/>
                </a:solidFill>
                <a:latin typeface="Arial"/>
              </a:rPr>
              <a:t>情報の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15120" y="306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7d"/>
                </a:solidFill>
                <a:latin typeface="Arial"/>
              </a:rPr>
              <a:t>情報の提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34290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3500280"/>
            <a:ext cx="431640" cy="1297080"/>
          </a:xfrm>
          <a:prstGeom prst="upArrow">
            <a:avLst>
              <a:gd name="adj1" fmla="val 50000"/>
              <a:gd name="adj2" fmla="val 7512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なインターネットサー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 電子メール送信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電子メール受信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提供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 名前解決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･･ ファイル転送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バ ･･････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アドレス自動割付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バとクライアントの関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00000" y="2205000"/>
            <a:ext cx="1511280" cy="2592360"/>
            <a:chOff x="900000" y="2205000"/>
            <a:chExt cx="1511280" cy="2592360"/>
          </a:xfrm>
        </p:grpSpPr>
        <p:sp>
          <p:nvSpPr>
            <p:cNvPr id="122" name=""/>
            <p:cNvSpPr/>
            <p:nvPr/>
          </p:nvSpPr>
          <p:spPr>
            <a:xfrm>
              <a:off x="900000" y="220500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P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00000" y="2852640"/>
              <a:ext cx="1511280" cy="64800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00000" y="350208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0000" y="4149720"/>
              <a:ext cx="1511280" cy="64764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372360" y="3068640"/>
            <a:ext cx="2015640" cy="1728720"/>
            <a:chOff x="6372360" y="3068640"/>
            <a:chExt cx="2015640" cy="1728720"/>
          </a:xfrm>
        </p:grpSpPr>
        <p:sp>
          <p:nvSpPr>
            <p:cNvPr id="127" name=""/>
            <p:cNvSpPr/>
            <p:nvPr/>
          </p:nvSpPr>
          <p:spPr>
            <a:xfrm>
              <a:off x="6372360" y="3068640"/>
              <a:ext cx="2015640" cy="57636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メールソフ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72360" y="3645000"/>
              <a:ext cx="2015640" cy="57636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ブラウ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72360" y="4221360"/>
              <a:ext cx="2015640" cy="576000"/>
            </a:xfrm>
            <a:prstGeom prst="rect">
              <a:avLst/>
            </a:prstGeom>
            <a:solidFill>
              <a:srgbClr val="ccffcc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クライアン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411280" y="479736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10520" y="2494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81800" y="3141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80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4880" y="4437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11240" y="32860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9440" y="3860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4160" y="4437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556000" y="2637000"/>
            <a:ext cx="295272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7280" y="3212640"/>
            <a:ext cx="288144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7280" y="3860640"/>
            <a:ext cx="280836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451008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21840" y="1773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36240" y="2637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クライア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5120" y="5373720"/>
            <a:ext cx="666720" cy="459720"/>
          </a:xfrm>
          <a:prstGeom prst="rect">
            <a:avLst/>
          </a:prstGeom>
          <a:solidFill>
            <a:srgbClr val="9999ff">
              <a:alpha val="41000"/>
            </a:srgbClr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は、番号でソフトウェアを認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電子メ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5257800" cy="1990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30600" y="4724280"/>
            <a:ext cx="29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bc@japan-u.ac.j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72640" y="4724280"/>
            <a:ext cx="24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さん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bcd@usa-u.e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83760" y="155736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章や画像などを相手の電子メールアドレスを管理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サーバに送信するサービスを電子メールと呼び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7840" y="3213000"/>
            <a:ext cx="12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8920" y="32130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電子メールを利用した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ルマガジ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登録することで趣味関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ある情報を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発行会社が送って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仲間同士でメールを交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する際に利用するメール交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ービスであ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953080" cy="2463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3457440" cy="1679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サービ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47640" y="2781360"/>
            <a:ext cx="6048720" cy="3152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084040" y="155736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章をはじめ、画像や音声、動画などさまざまな情報を文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して提供するサービスである。情報検索を行うサービス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ありインターネットの標準的サービスとも言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ブラウザ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ラウザ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et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ire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af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Uniform Resource Locator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19280" y="4941720"/>
            <a:ext cx="5486400" cy="13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05:15:44Z</dcterms:created>
  <dc:creator>T.Yamazumi</dc:creator>
  <dc:description/>
  <dc:language>en-US</dc:language>
  <cp:lastModifiedBy>湯浅聖記</cp:lastModifiedBy>
  <dcterms:modified xsi:type="dcterms:W3CDTF">2006-01-09T07:57:42Z</dcterms:modified>
  <cp:revision>82</cp:revision>
  <dc:subject/>
  <dc:title>ネットワーク社会の 情報倫理</dc:title>
</cp:coreProperties>
</file>