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5602-23E6-44AD-AB3A-52A68DD7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1F88-F9A2-45F0-912F-C68B62FC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9473-EB41-420E-B6AD-760FFACF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0996-988B-482C-A09C-9FDAA23A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888D-9BBC-4181-AC3D-CE731195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6388-B962-469C-9952-5A07CE69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51F8-543F-4000-BDF6-E90F92E1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622B-B1BA-4EFD-84A4-F16DEC27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09F3-9514-4BDE-92C3-ADCD3ADE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C71C-6F23-41F5-A78A-ED177FC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395F-11CB-41F4-8F44-6538C240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44BA-4E4F-4A0C-BD3B-6A8050ED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708E-AA19-4AFB-9529-E87E6B0B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34B5-CCEC-42A6-8BB9-0A24856A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86A5-FA6D-40F3-8D16-3D1A43CA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482E-9B47-42B3-9505-EAC466DA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6319-9EBE-43FC-A400-7DE774D7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388D-445D-49EB-BBCA-89C0D419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5980-730A-4526-AD96-3B150606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14CE-6AE5-4E32-85D7-164DDFF5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D4A5-1E0F-44D6-A21E-1D18397F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9C825-4441-4EE6-91C1-DFCE6B6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C57D-F7D3-45AD-A2C1-6E4A1153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D068D-FA39-40D1-B47B-CB495F04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6B51-4364-4FA8-8D05-9B3308610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954F-7A9C-4343-B7B7-21B1130C1B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情報倫理と</a:t>
            </a:r>
            <a:br>
              <a:rPr sz="5000"/>
            </a:br>
            <a:r>
              <a:rPr b="0" lang="zh-CN" sz="5000" spc="-1" strike="noStrike">
                <a:solidFill>
                  <a:srgbClr val="ffffff"/>
                </a:solidFill>
                <a:latin typeface="Arial"/>
              </a:rPr>
              <a:t>メディアリテラシ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ネットワーク社会と情報化社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に関する問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人の著作物を公開すると訴訟問題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キャラクタが似ていると非難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誹謗中傷も批判の対象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個人情報を掲載するといたずらされる可能性があ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71640" y="1341360"/>
            <a:ext cx="7488000" cy="4103640"/>
          </a:xfrm>
          <a:prstGeom prst="rect">
            <a:avLst/>
          </a:prstGeom>
          <a:solidFill>
            <a:srgbClr val="ccffcc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メディア・リテラシーの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661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人に同感や批判を繰り返すことで、メディアリテラシーが身につ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報発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76360" y="2060640"/>
            <a:ext cx="2232000" cy="1224000"/>
          </a:xfrm>
          <a:prstGeom prst="ellipse">
            <a:avLst/>
          </a:prstGeom>
          <a:solidFill>
            <a:srgbClr val="9999ff">
              <a:alpha val="6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個人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413000"/>
            <a:ext cx="2232000" cy="1224000"/>
          </a:xfrm>
          <a:prstGeom prst="ellipse">
            <a:avLst/>
          </a:prstGeom>
          <a:solidFill>
            <a:srgbClr val="9999ff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ブロ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060640"/>
            <a:ext cx="2232000" cy="1224000"/>
          </a:xfrm>
          <a:prstGeom prst="ellipse">
            <a:avLst/>
          </a:prstGeom>
          <a:solidFill>
            <a:srgbClr val="9999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学級新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76360" y="3429000"/>
            <a:ext cx="2232000" cy="1224000"/>
          </a:xfrm>
          <a:prstGeom prst="ellipse">
            <a:avLst/>
          </a:prstGeom>
          <a:solidFill>
            <a:srgbClr val="9999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電子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342900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チャ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076640"/>
            <a:ext cx="2232000" cy="1224000"/>
          </a:xfrm>
          <a:prstGeom prst="ellipse">
            <a:avLst/>
          </a:prstGeom>
          <a:solidFill>
            <a:srgbClr val="9999ff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インスタント・メッセンジ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システムの脅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外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内部からの不正アクセ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作ミスや処理ミ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偶発的に起こる事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9200" y="1916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システムへ悪影響を与える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93160" y="1916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災と人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1989000"/>
            <a:ext cx="1152360" cy="360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インターネット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ウィルス対策を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サーバのアクセス権の設定を厳密に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認証をしっかり行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ホールを埋め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バックアップ体制の作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ファイアウォールの導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セキュリティポリシー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危機管理体制の策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1413000"/>
            <a:ext cx="7705800" cy="316836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情報倫理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セキュリティ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314172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1628640"/>
            <a:ext cx="3095640" cy="1297080"/>
          </a:xfrm>
          <a:prstGeom prst="ellipse">
            <a:avLst/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ルールとマナ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5373720"/>
            <a:ext cx="3600360" cy="719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情報倫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4653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ネットワーク社会で求められる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55680" y="3573360"/>
            <a:ext cx="522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ネットワーク社会でのルールとマナ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メディアリテラシ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306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3067f"/>
                </a:solidFill>
                <a:latin typeface="Times New Roman"/>
              </a:rPr>
              <a:t>セキュリティ対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205000"/>
            <a:ext cx="79218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ネットワーク社会で生き抜くためには次の３つが重要であ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238608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携帯電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ピュー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カーナ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284640"/>
            <a:ext cx="1800000" cy="863640"/>
          </a:xfrm>
          <a:prstGeom prst="rightArrow">
            <a:avLst>
              <a:gd name="adj1" fmla="val 50000"/>
              <a:gd name="adj2" fmla="val 5210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ネット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76640"/>
            <a:ext cx="4175280" cy="2952720"/>
          </a:xfrm>
          <a:prstGeom prst="ellipse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たなコミュニケーションの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788000" y="1628640"/>
            <a:ext cx="3887640" cy="3240360"/>
          </a:xfrm>
          <a:prstGeom prst="rect">
            <a:avLst/>
          </a:prstGeom>
          <a:solidFill>
            <a:srgbClr val="339966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157720"/>
            <a:ext cx="8424720" cy="1511280"/>
          </a:xfrm>
          <a:prstGeom prst="rect">
            <a:avLst/>
          </a:prstGeom>
          <a:solidFill>
            <a:srgbClr val="99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ユビキタス環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249800" cy="3273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056200" y="156204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184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「ユビキタス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71592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いラテン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「どこにでもある」の意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2781360"/>
            <a:ext cx="432000" cy="64908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7840" y="480204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6093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「いつでも」「どこでも」「なんでも」接続できる環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33760" y="5137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ユビキタス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734080"/>
            <a:ext cx="576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ネットワーク社会のルールとマナ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99240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くの管理者の善意によって維持、更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に迷惑や不安がらせるような行為を行わ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何より相手に対する思いやりが重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危険なところや怪しいところには行かないこ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048720" cy="236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の問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軽に色々な情報検索が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アダルトサイトや自殺幇助のサイトに手軽に接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違法サイトや違法取引場に引き込まれ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個人情報流出の舞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悪意のあるユーザが存在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善意のユーザにもウィルスが届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正侵入を試みるユーザがい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インターネット・セキュリテ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ユー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とパスワードの不正取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ピュータウィル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への不正侵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システムダウ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漏洩対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情報の改ざ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信内容の盗聴・傍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64000" y="1700280"/>
            <a:ext cx="5184720" cy="3024000"/>
          </a:xfrm>
          <a:prstGeom prst="rect">
            <a:avLst/>
          </a:prstGeom>
          <a:solidFill>
            <a:srgbClr val="9999f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リテラシ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76880" y="198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インターネ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637000"/>
            <a:ext cx="2520720" cy="1655640"/>
          </a:xfrm>
          <a:prstGeom prst="ellipse">
            <a:avLst/>
          </a:prstGeom>
          <a:solidFill>
            <a:srgbClr val="ff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マイナ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6360" y="2637000"/>
            <a:ext cx="2519280" cy="1655640"/>
          </a:xfrm>
          <a:prstGeom prst="ellipse">
            <a:avLst/>
          </a:prstGeom>
          <a:solidFill>
            <a:srgbClr val="0080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プラスの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740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12800" y="4869000"/>
            <a:ext cx="34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善悪の判断と情報の信憑性の判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5373720"/>
            <a:ext cx="13683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6021360"/>
            <a:ext cx="4608720" cy="576360"/>
          </a:xfrm>
          <a:prstGeom prst="rect">
            <a:avLst/>
          </a:prstGeom>
          <a:solidFill>
            <a:srgbClr val="9999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067f"/>
                </a:solidFill>
                <a:latin typeface="Times New Roman"/>
              </a:rPr>
              <a:t>メディア・リテラシ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3049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87280" y="1989000"/>
            <a:ext cx="6697800" cy="3095640"/>
          </a:xfrm>
          <a:prstGeom prst="rect">
            <a:avLst/>
          </a:prstGeom>
          <a:solidFill>
            <a:srgbClr val="33cccc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と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86040" y="1484280"/>
            <a:ext cx="19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メディア・リテラシー ＝ 「メディア」 ＋ 「リテラシー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85640" y="1989000"/>
            <a:ext cx="210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新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雑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テレ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ラジ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インターネット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9960" y="4292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「読み取る能力」と「書く能力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24880" y="6165720"/>
            <a:ext cx="73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信憑性が高く、信頼性のある「情報」を探し出す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5960" y="28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067f"/>
                </a:solidFill>
                <a:latin typeface="Times New Roman"/>
              </a:rPr>
              <a:t>メディ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20200" y="4221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3831b"/>
                </a:solidFill>
                <a:latin typeface="Times New Roman"/>
              </a:rPr>
              <a:t>リテラシ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9360" y="5229360"/>
            <a:ext cx="7218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メディア・リテラシー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133720"/>
            <a:ext cx="647640" cy="1944720"/>
          </a:xfrm>
          <a:custGeom>
            <a:avLst/>
            <a:gdLst>
              <a:gd name="textAreaLeft" fmla="*/ 414000 w 647640"/>
              <a:gd name="textAreaRight" fmla="*/ 648000 w 647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805360"/>
            <a:ext cx="86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メディア・リテラシーを身につけ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ページの閲覧だけでは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人間だけの電子メールのみでも身につか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3720" y="465300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情報の信憑性を誰かに投げかけ真意を得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716280"/>
            <a:ext cx="15112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3:21:39Z</dcterms:created>
  <dc:creator>湯浅　聖記</dc:creator>
  <dc:description/>
  <dc:language>en-US</dc:language>
  <cp:lastModifiedBy>T.Yamazumi</cp:lastModifiedBy>
  <dcterms:modified xsi:type="dcterms:W3CDTF">2006-04-07T02:46:39Z</dcterms:modified>
  <cp:revision>11</cp:revision>
  <dc:subject/>
  <dc:title>情報倫理とメディアリテラシー</dc:title>
</cp:coreProperties>
</file>