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D729-54ED-4ED3-B759-03F2A1AD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FD4D-D353-45C9-B421-A738D6A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189C-87F5-49C9-BB76-0B92770D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867C-E0AF-4C02-8F4C-375B6960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8DD8-C553-4689-89C2-C630D7E0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6959-12B7-4B0C-9E26-3618E5DA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14E-6349-4A90-8F61-D38A2ED6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B3B-57AC-4509-9AB6-D33FB37A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8B83-20AB-47F8-92E2-16954F8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B697-46F0-481E-839D-9F6DD894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C500-F251-4EE7-812A-E968E79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5030-38DB-4048-9D57-365911E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57B-D7D7-4E68-82D6-F3AC1FC6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AC5-958A-4472-A052-CBDCFC67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2935-69C5-4732-B846-0E107EEF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7AEE-6C44-4720-87A5-D3A38D4B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917C-D8CC-495F-BE2F-7CDBE084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4DFB-5942-4795-816F-3A2BE2DD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9D93-FD43-4BC2-BA77-623F3855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79D7-DC0F-47F6-AB01-C62F788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E94DF-1DA0-443A-82F5-7998F82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3A33-64BD-451C-9924-4123747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BBED3-4011-4926-ACCA-EBBC5B7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A4CE-C5D5-4201-8878-817B5ABD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39A7-170D-49D3-AAEB-B81486FBE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17F6-452F-432A-A820-10772CAB2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後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９　公序良俗に反する情報公開・違法販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537080" cy="2016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solidFill>
            <a:srgbClr val="9999cc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924280"/>
            <a:ext cx="503280" cy="649080"/>
          </a:xfrm>
          <a:custGeom>
            <a:avLst/>
            <a:gdLst>
              <a:gd name="textAreaLeft" fmla="*/ 0 w 503280"/>
              <a:gd name="textAreaRight" fmla="*/ 503640 w 50328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０　自殺サイ 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384720" cy="1152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方法を公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仲間を募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1844640"/>
            <a:ext cx="3671640" cy="116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団自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車で練炭を炊き中毒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20500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573360"/>
            <a:ext cx="3743280" cy="1079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殺ほう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3573360"/>
            <a:ext cx="3744720" cy="108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論・表現の自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716280"/>
            <a:ext cx="865080" cy="792360"/>
          </a:xfrm>
          <a:prstGeom prst="leftRightArrow">
            <a:avLst>
              <a:gd name="adj1" fmla="val 50000"/>
              <a:gd name="adj2" fmla="val 2173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869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サイトを公開することの是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6021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分１人で悩まず、相談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544500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自殺者を装った殺人事件も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６　電子メールを利用した犯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5640" y="4508280"/>
            <a:ext cx="4043160" cy="18795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スパム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マメー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によるいじ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1628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989000"/>
            <a:ext cx="561636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電子メール　→　高い利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コンピュータ・携帯電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スパムメー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2880000" cy="136836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広告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無差別に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ドレスを生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357720"/>
            <a:ext cx="3457440" cy="122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特定電子メール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改訂特定商取引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57720"/>
            <a:ext cx="3889440" cy="1224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スパム配信の取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・未承諾広告の明示義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4581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3933720"/>
            <a:ext cx="4575240" cy="2374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自己防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フィルタリング機能の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・長めのアドレス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（記号も含め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67160" cy="229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デマ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2060640"/>
            <a:ext cx="2735280" cy="1871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事実無根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たず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いやがら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脅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365720"/>
            <a:ext cx="410364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365720"/>
            <a:ext cx="3816360" cy="86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59280" cy="2898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5877000"/>
            <a:ext cx="410544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振り回されず、削除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87700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警察等へ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4360" y="53737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6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メールによるいじ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2997360"/>
            <a:ext cx="5915160" cy="1303200"/>
          </a:xfrm>
          <a:prstGeom prst="rect">
            <a:avLst/>
          </a:prstGeom>
          <a:noFill/>
          <a:ln w="2844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メートの悪口・中傷を書き込み送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カメラ付の携帯で撮影した写真を添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ールによるストーカー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1844640"/>
            <a:ext cx="3457800" cy="792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学生が携帯を所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844640"/>
            <a:ext cx="2954520" cy="792360"/>
          </a:xfrm>
          <a:prstGeom prst="rect">
            <a:avLst/>
          </a:prstGeom>
          <a:solidFill>
            <a:srgbClr val="9999cc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いじめ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22766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6021360"/>
            <a:ext cx="5977080" cy="6476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被害が広まる前に、早急に届け出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4508640"/>
            <a:ext cx="1800000" cy="1296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4581360"/>
            <a:ext cx="3527280" cy="115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はすぐに広ま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人に大きなダ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登校や自殺の原因に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誹謗中傷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5832360" cy="23763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チャット・掲示板での被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顔が見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ゲーム感覚で無責任に書き込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は一瞬で広ま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情報が暴走し、２次的、３次的被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49780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：他人の悪口をいうこと、そし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傷：無根拠のことをいって、名誉を傷つけ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72360" y="3068640"/>
            <a:ext cx="2771640" cy="2590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95280" y="5950080"/>
            <a:ext cx="583236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まず、相手の気持ちになって、思いやり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5445000"/>
            <a:ext cx="1800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.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誹謗中傷に発展するケー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3960720" cy="936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感情的になり、口論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をおいて冷静に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299736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互いの意見が衝突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149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個人情報を書き込まれ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3860640"/>
            <a:ext cx="3960720" cy="122400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掲載内容やメールを保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者に削除を依頼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バイダ責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73720"/>
            <a:ext cx="3311280" cy="647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業や団体に対する中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5157720"/>
            <a:ext cx="3960720" cy="12956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企業の名誉毀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業務妨害が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証拠を保存し警察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3068640"/>
            <a:ext cx="649440" cy="431640"/>
          </a:xfrm>
          <a:custGeom>
            <a:avLst/>
            <a:gdLst>
              <a:gd name="textAreaLeft" fmla="*/ 0 w 649440"/>
              <a:gd name="textAreaRight" fmla="*/ 649800 w 6494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4221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5640" y="5445000"/>
            <a:ext cx="649440" cy="432000"/>
          </a:xfrm>
          <a:custGeom>
            <a:avLst/>
            <a:gdLst>
              <a:gd name="textAreaLeft" fmla="*/ 0 w 649440"/>
              <a:gd name="textAreaRight" fmla="*/ 649800 w 6494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060640"/>
            <a:ext cx="288000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206064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アクセス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3280" y="3284640"/>
            <a:ext cx="6121440" cy="172872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人に送信されたメールを盗み見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破壊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バイダのサービスを不正利用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を踏み台にして、別の犯罪を犯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1700280"/>
            <a:ext cx="7416720" cy="720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2637000"/>
            <a:ext cx="3457800" cy="576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5157720"/>
            <a:ext cx="3024360" cy="459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73408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他人のアカウントによるアクセスはすべて犯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6237360"/>
            <a:ext cx="611964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いたずら目的でも処罰対象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5734080"/>
            <a:ext cx="71280" cy="9349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4920"/>
              <a:gd name="textAreaBottom" fmla="*/ 89604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8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アカウント盗用の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127640" cy="79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24280"/>
            <a:ext cx="3097440" cy="1015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正アクセス禁止法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処罰対象と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299736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ID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・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ワードなどを故意に漏ら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500280"/>
            <a:ext cx="4753080" cy="459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アカウントを他人に貸し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76720" y="3284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4076640"/>
            <a:ext cx="475308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管理者を装いパスワードを聞き出す（ソーシャルエンジニアリング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4292640"/>
            <a:ext cx="574920" cy="431640"/>
          </a:xfrm>
          <a:custGeom>
            <a:avLst/>
            <a:gdLst>
              <a:gd name="textAreaLeft" fmla="*/ 0 w 574920"/>
              <a:gd name="textAreaRight" fmla="*/ 575280 w 574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24360" y="4076640"/>
            <a:ext cx="3097440" cy="45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切応じず、プロバイダに届け出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5229360"/>
            <a:ext cx="6192720" cy="125244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文字と小文字に数字や記号を混ぜた長い文字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単語、地名、人名などをそのまま単独で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情報（誕生日など）と無関係なもの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522936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図書情報センター</cp:lastModifiedBy>
  <dcterms:modified xsi:type="dcterms:W3CDTF">2005-12-09T01:29:07Z</dcterms:modified>
  <cp:revision>57</cp:revision>
  <dc:subject/>
  <dc:title>ネットワーク社会の情報倫理</dc:title>
</cp:coreProperties>
</file>