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C9BD9-A8A3-4BEA-B59E-3D3EE3C7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B84C7-FC6D-476B-9BAE-05573823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3D53C-DA91-4315-A43D-2DB5C2936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12771-70DE-442F-ACC8-F2BEFC75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5C66-150B-4F23-A5C6-E6B8B13E2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EA71-BEBE-4B8E-B2FE-6BCE36DB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9CB2-F27B-4740-9AB7-3155CD06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47C7-8DC8-4EEA-A892-F1B79E29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F1AC-5499-4AAD-96FF-0DACAA0B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19F6-04BC-457A-9A9D-CA7100B6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0200-F313-458E-B4B3-54838858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B58B8-7B73-4C85-A95A-5DFFD6A1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7756-7B34-4903-B540-BDD84504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0772-A743-4E56-BCDB-40587C8C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2AD8-C520-4041-925B-737C8DB8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0F61-2B81-41B1-BB91-0693F9A77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48F0-5CDB-45D0-B311-6AB445302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43119-C2BC-4ACD-99AA-EE111D39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11D64-10E6-4DA2-928D-8D2D5F80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F18C0-8683-42CD-8B6C-30C8F946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8E104-CB7C-45F5-AE10-810EEAD0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286D7-62CA-4F23-85F9-55679D29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0E1A5-785A-4E38-AC4A-0EEC9028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6AACC-287A-4161-BFD5-1C22D0E5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C37D-64BA-4235-8DA9-E460962ED6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6EFB-B10F-4CE5-8B74-36FAA50817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2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５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情報セキュリティ（後半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6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デジタル署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89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Ａｌｉｃｅ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6072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9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629080" y="4508640"/>
            <a:ext cx="50148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56360" y="4508640"/>
            <a:ext cx="50472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56000" y="4292640"/>
            <a:ext cx="628920" cy="406440"/>
          </a:xfrm>
          <a:prstGeom prst="rightArrow">
            <a:avLst>
              <a:gd name="adj1" fmla="val 50000"/>
              <a:gd name="adj2" fmla="val 3868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661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Ａｌｉｃ</a:t>
            </a:r>
            <a:r>
              <a:rPr b="1" lang="en-US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e</a:t>
            </a: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00544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9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13080" y="4653000"/>
            <a:ext cx="934920" cy="936720"/>
          </a:xfrm>
          <a:prstGeom prst="upArrowCallout">
            <a:avLst>
              <a:gd name="adj1" fmla="val 25002"/>
              <a:gd name="adj2" fmla="val 25000"/>
              <a:gd name="adj3" fmla="val 16699"/>
              <a:gd name="adj4" fmla="val 666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Ａｌｉｃｅ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秘密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869080" y="4651200"/>
            <a:ext cx="936360" cy="936720"/>
          </a:xfrm>
          <a:prstGeom prst="upArrowCallout">
            <a:avLst>
              <a:gd name="adj1" fmla="val 25002"/>
              <a:gd name="adj2" fmla="val 25000"/>
              <a:gd name="adj3" fmla="val 16673"/>
              <a:gd name="adj4" fmla="val 66660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Ａｌｉｃｅ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公開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476360" y="515772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234000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94036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140360" y="3860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12720" y="3859200"/>
            <a:ext cx="936720" cy="3682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送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813800" y="3859200"/>
            <a:ext cx="936360" cy="3682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受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5640" y="5734080"/>
            <a:ext cx="266400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自分の秘密鍵で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6877080" y="5084640"/>
            <a:ext cx="1081080" cy="5763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 rot="16200000">
            <a:off x="4356000" y="4365000"/>
            <a:ext cx="647640" cy="1511280"/>
          </a:xfrm>
          <a:custGeom>
            <a:avLst/>
            <a:gdLst>
              <a:gd name="textAreaLeft" fmla="*/ 101160 w 647640"/>
              <a:gd name="textAreaRight" fmla="*/ 567000 w 647640"/>
              <a:gd name="textAreaTop" fmla="*/ 377640 h 1511280"/>
              <a:gd name="textAreaBottom" fmla="*/ 1133640 h 15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00000" y="1700280"/>
            <a:ext cx="7344000" cy="178992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公開鍵暗号方式の応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秘密鍵でデータの一部を暗号化して送信す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復号化できるのは、秘密鍵を持つ本人が暗号化したときの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本人以外の秘密鍵や改ざんされた暗号文は復号化できない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867280" y="5661000"/>
            <a:ext cx="266400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相手の公開鍵で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7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S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11280" y="2205000"/>
            <a:ext cx="7127640" cy="223776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通信路に独自の層を作成して行う暗号と認証のシステ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eb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ブラウザにおける商取引で実用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送信データの暗号化は高速な共通鍵暗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共通鍵は公開鍵暗号方式で暗号化し安全に配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アドレスは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"</a:t>
            </a:r>
            <a:r>
              <a:rPr b="0" lang="en-US" sz="2000" spc="-1" strike="noStrike">
                <a:solidFill>
                  <a:srgbClr val="ff0000"/>
                </a:solidFill>
                <a:latin typeface="ＭＳ Ｐゴシック"/>
              </a:rPr>
              <a:t>https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で始まる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UR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11280" y="1557360"/>
            <a:ext cx="4824360" cy="106884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S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e Socket Laye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11280" y="5073480"/>
            <a:ext cx="3744720" cy="15652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7740720" y="515772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611280" y="4581360"/>
            <a:ext cx="374472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信で表示されるメッセー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932360" y="4581360"/>
            <a:ext cx="388944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SL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のサイトで表示されるアイコ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740720" y="515772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5003640" y="5157720"/>
            <a:ext cx="2232360" cy="12398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156360" y="6165720"/>
            <a:ext cx="360360" cy="35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6516720" y="587664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8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11280" y="1557360"/>
            <a:ext cx="6408720" cy="106884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e Electronic Transaction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5280" y="2205000"/>
            <a:ext cx="8209080" cy="178992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公開。（カード会社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社などが共同開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カード決済をインターネット上で安全に行うための暗号システ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サイト側にカード番号を暗号化 したまま取り引き可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はない機能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カードの不正利用や流出を防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684360" y="4508640"/>
            <a:ext cx="1441440" cy="11160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6732720" y="5589720"/>
            <a:ext cx="1304640" cy="9032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4140360" y="4221000"/>
            <a:ext cx="1296720" cy="12319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 flipH="1" flipV="1">
            <a:off x="5364000" y="5157360"/>
            <a:ext cx="144000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3640" y="609300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00000" y="6165720"/>
            <a:ext cx="2159280" cy="368280"/>
          </a:xfrm>
          <a:prstGeom prst="rect">
            <a:avLst/>
          </a:pr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購入品目（暗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00000" y="5661000"/>
            <a:ext cx="2159280" cy="368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カード情報（暗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451640" y="5084640"/>
            <a:ext cx="1368360" cy="64260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ショッピング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427640" y="6165720"/>
            <a:ext cx="2087640" cy="368280"/>
          </a:xfrm>
          <a:prstGeom prst="rect">
            <a:avLst/>
          </a:prstGeom>
          <a:noFill/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購入品目（復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364000" y="4365720"/>
            <a:ext cx="1368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カード情報（復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03640" y="4221000"/>
            <a:ext cx="1224000" cy="3682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カード会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9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95280" y="1628640"/>
            <a:ext cx="4681440" cy="106884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GP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tty Good Privac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95280" y="2276640"/>
            <a:ext cx="8209080" cy="178992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電子メールを暗号化するための暗号システ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91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年、アメリカの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P. Zimmermann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によって開発 され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公開鍵方式で、デジタル署名機能付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公開鍵は認証機関でなく、ユーザ同士で相互に正当性を認証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95280" y="4724280"/>
            <a:ext cx="8280360" cy="3682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暗号＝武器とみなされ、アメリカの輸出規制法違反となり公開がおくれ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95280" y="5445000"/>
            <a:ext cx="8280360" cy="3682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軍事用と別に一般向けの「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GP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国際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」が開発され、フリーウェアとして配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5280" y="4292640"/>
            <a:ext cx="2376360" cy="398880"/>
          </a:xfrm>
          <a:prstGeom prst="rect">
            <a:avLst/>
          </a:prstGeom>
          <a:solidFill>
            <a:srgbClr val="ccff33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PGP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国際版の配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95280" y="6165720"/>
            <a:ext cx="8280360" cy="3682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-DO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対応し、日本語版も開発されてい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24360" y="5084640"/>
            <a:ext cx="86364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24360" y="5805360"/>
            <a:ext cx="86364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６　セキュリティポリシ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5796000" y="1989000"/>
            <a:ext cx="3348000" cy="19447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24000" y="2205000"/>
            <a:ext cx="42480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１．セキュリティポリシーの立案・策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0920" y="1628640"/>
            <a:ext cx="6264360" cy="3988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組織全体に対するセキュリティの基盤となるガイドライ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84360" y="2637000"/>
            <a:ext cx="4895640" cy="36828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利用される情報と危険性を分析し、対策を立案（パスワード管理、不正アクセスやウィルス対策）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4000" y="3357720"/>
            <a:ext cx="38163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２．ネットワーク機器の選定・構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3789360"/>
            <a:ext cx="5543280" cy="36828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機器の選定と導入、および各機器やソフトウェアの設定（アクセス権の設定、ファイアウォール構築等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24000" y="4508640"/>
            <a:ext cx="41767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３．セキュリティポリシーの運用・実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84360" y="4941720"/>
            <a:ext cx="7127640" cy="36828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組織全員に対する教育、システムの更新作業 、アタックについての記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4000" y="5373720"/>
            <a:ext cx="16556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４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分析・改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5805360"/>
            <a:ext cx="6335640" cy="36828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設定や管理が適切か、ルールを遵守できたかなどの分析と改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84360" y="6362640"/>
            <a:ext cx="7704000" cy="39888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上記の４段階を繰り返しながら運用し、情報社会の変化に対応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4.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パーソナル機のバックアップ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95640" y="2421000"/>
            <a:ext cx="2376360" cy="862560"/>
          </a:xfrm>
          <a:prstGeom prst="rect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破壊、消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システム障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3500280"/>
            <a:ext cx="40320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容量メディアへバックアッ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916280"/>
            <a:ext cx="511164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ハードディスクのデータ・システム全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012000" y="1773360"/>
            <a:ext cx="796680" cy="1655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667640" y="2276640"/>
            <a:ext cx="1225440" cy="2016000"/>
          </a:xfrm>
          <a:custGeom>
            <a:avLst/>
            <a:gdLst>
              <a:gd name="textAreaLeft" fmla="*/ 164160 w 1225440"/>
              <a:gd name="textAreaRight" fmla="*/ 1061280 w 1225440"/>
              <a:gd name="textAreaTop" fmla="*/ 352800 h 2016000"/>
              <a:gd name="textAreaBottom" fmla="*/ 146160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2421000"/>
            <a:ext cx="100800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6360" y="4076640"/>
            <a:ext cx="3382920" cy="86256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ダメージを最小限にとどめ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復旧を早くす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47640" y="5734080"/>
            <a:ext cx="7056720" cy="86256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ファイルやフォルダをエクスプローラなどでコピ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indows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のバックアップユーティリティの活用　（初心者向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5157720"/>
            <a:ext cx="29509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バックアップの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64000" y="3429000"/>
            <a:ext cx="2616480" cy="1851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4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サーバ機のバックアッ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1916280"/>
            <a:ext cx="3527280" cy="45972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容量機のバックアッ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95640" y="2421000"/>
            <a:ext cx="1871640" cy="862560"/>
          </a:xfrm>
          <a:prstGeom prst="rect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サーバ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データベー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3573360"/>
            <a:ext cx="37447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VD-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磁気テー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2421000"/>
            <a:ext cx="100800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08720" y="1844640"/>
            <a:ext cx="28447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ミラーリング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1640" y="1700280"/>
            <a:ext cx="1008000" cy="792000"/>
          </a:xfrm>
          <a:prstGeom prst="rightArrow">
            <a:avLst>
              <a:gd name="adj1" fmla="val 50000"/>
              <a:gd name="adj2" fmla="val 31818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76720" y="2565360"/>
            <a:ext cx="3781440" cy="132624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ハードディスクを二重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書き込みが同時に行わ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一方が故障しても他方を使用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64000" y="5157720"/>
            <a:ext cx="1081080" cy="935280"/>
          </a:xfrm>
          <a:prstGeom prst="can">
            <a:avLst>
              <a:gd name="adj" fmla="val 25000"/>
            </a:avLst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6000" y="5157720"/>
            <a:ext cx="1081080" cy="935280"/>
          </a:xfrm>
          <a:prstGeom prst="can">
            <a:avLst>
              <a:gd name="adj" fmla="val 25000"/>
            </a:avLst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56360" y="4076640"/>
            <a:ext cx="1295280" cy="576360"/>
          </a:xfrm>
          <a:prstGeom prst="foldedCorner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04000" y="4653000"/>
            <a:ext cx="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40360" y="4869000"/>
            <a:ext cx="187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40360" y="486900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12000" y="486900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6720" y="6165720"/>
            <a:ext cx="1728720" cy="398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データディ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77080" y="6165720"/>
            <a:ext cx="1979640" cy="398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チェックディ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987640" y="4365720"/>
            <a:ext cx="1224000" cy="823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55640" y="4508640"/>
            <a:ext cx="712800" cy="1944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 rot="891000">
            <a:off x="2916000" y="5373360"/>
            <a:ext cx="1403280" cy="1074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763640" y="4724280"/>
            <a:ext cx="936720" cy="1440000"/>
          </a:xfrm>
          <a:custGeom>
            <a:avLst/>
            <a:gdLst>
              <a:gd name="textAreaLeft" fmla="*/ 117000 w 936720"/>
              <a:gd name="textAreaRight" fmla="*/ 819720 w 936720"/>
              <a:gd name="textAreaTop" fmla="*/ 360000 h 1440000"/>
              <a:gd name="textAreaBottom" fmla="*/ 108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292720" y="3500280"/>
            <a:ext cx="3529080" cy="2737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3500280"/>
            <a:ext cx="3528720" cy="26654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4.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通常のファイル管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557360"/>
            <a:ext cx="5256000" cy="1557000"/>
          </a:xfrm>
          <a:prstGeom prst="rect">
            <a:avLst/>
          </a:prstGeom>
          <a:solidFill>
            <a:srgbClr val="ffff00"/>
          </a:solidFill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．ファイルのコピー、移動、消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２．フォルダの作成、ファイルをまと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．外部メディアとデータをやり取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４．フォルダのカテゴリ別分類、階層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ile"/>
          <p:cNvSpPr/>
          <p:nvPr/>
        </p:nvSpPr>
        <p:spPr>
          <a:xfrm>
            <a:off x="6012000" y="364500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ile"/>
          <p:cNvSpPr/>
          <p:nvPr/>
        </p:nvSpPr>
        <p:spPr>
          <a:xfrm>
            <a:off x="6012000" y="429264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ile"/>
          <p:cNvSpPr/>
          <p:nvPr/>
        </p:nvSpPr>
        <p:spPr>
          <a:xfrm>
            <a:off x="1547640" y="501336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ile"/>
          <p:cNvSpPr/>
          <p:nvPr/>
        </p:nvSpPr>
        <p:spPr>
          <a:xfrm>
            <a:off x="971640" y="5084640"/>
            <a:ext cx="863640" cy="57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ile"/>
          <p:cNvSpPr/>
          <p:nvPr/>
        </p:nvSpPr>
        <p:spPr>
          <a:xfrm>
            <a:off x="2700360" y="4221000"/>
            <a:ext cx="863640" cy="57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ile"/>
          <p:cNvSpPr/>
          <p:nvPr/>
        </p:nvSpPr>
        <p:spPr>
          <a:xfrm>
            <a:off x="1547640" y="371628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ile"/>
          <p:cNvSpPr/>
          <p:nvPr/>
        </p:nvSpPr>
        <p:spPr>
          <a:xfrm>
            <a:off x="2556000" y="530064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ile"/>
          <p:cNvSpPr/>
          <p:nvPr/>
        </p:nvSpPr>
        <p:spPr>
          <a:xfrm>
            <a:off x="1042920" y="400536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ile"/>
          <p:cNvSpPr/>
          <p:nvPr/>
        </p:nvSpPr>
        <p:spPr>
          <a:xfrm>
            <a:off x="7667640" y="3789360"/>
            <a:ext cx="504720" cy="2858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ile"/>
          <p:cNvSpPr/>
          <p:nvPr/>
        </p:nvSpPr>
        <p:spPr>
          <a:xfrm>
            <a:off x="7667640" y="4149720"/>
            <a:ext cx="504720" cy="2858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ile"/>
          <p:cNvSpPr/>
          <p:nvPr/>
        </p:nvSpPr>
        <p:spPr>
          <a:xfrm>
            <a:off x="7667640" y="486900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ile"/>
          <p:cNvSpPr/>
          <p:nvPr/>
        </p:nvSpPr>
        <p:spPr>
          <a:xfrm>
            <a:off x="7667640" y="450864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ile"/>
          <p:cNvSpPr/>
          <p:nvPr/>
        </p:nvSpPr>
        <p:spPr>
          <a:xfrm>
            <a:off x="7667640" y="558972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ile"/>
          <p:cNvSpPr/>
          <p:nvPr/>
        </p:nvSpPr>
        <p:spPr>
          <a:xfrm>
            <a:off x="7667640" y="522936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ile"/>
          <p:cNvSpPr/>
          <p:nvPr/>
        </p:nvSpPr>
        <p:spPr>
          <a:xfrm>
            <a:off x="1979640" y="4941720"/>
            <a:ext cx="863640" cy="57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ile"/>
          <p:cNvSpPr/>
          <p:nvPr/>
        </p:nvSpPr>
        <p:spPr>
          <a:xfrm>
            <a:off x="2771640" y="378936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ile"/>
          <p:cNvSpPr/>
          <p:nvPr/>
        </p:nvSpPr>
        <p:spPr>
          <a:xfrm>
            <a:off x="3059280" y="4149720"/>
            <a:ext cx="86328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ile"/>
          <p:cNvSpPr/>
          <p:nvPr/>
        </p:nvSpPr>
        <p:spPr>
          <a:xfrm>
            <a:off x="2340000" y="465300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ile"/>
          <p:cNvSpPr/>
          <p:nvPr/>
        </p:nvSpPr>
        <p:spPr>
          <a:xfrm>
            <a:off x="1403280" y="4797360"/>
            <a:ext cx="863640" cy="574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56000" y="4508640"/>
            <a:ext cx="863640" cy="100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ile"/>
          <p:cNvSpPr/>
          <p:nvPr/>
        </p:nvSpPr>
        <p:spPr>
          <a:xfrm>
            <a:off x="6012000" y="5373720"/>
            <a:ext cx="863640" cy="574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ile"/>
          <p:cNvSpPr/>
          <p:nvPr/>
        </p:nvSpPr>
        <p:spPr>
          <a:xfrm>
            <a:off x="7667640" y="5950080"/>
            <a:ext cx="504720" cy="28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8360" y="393372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48360" y="4653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48360" y="573408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7308720" y="39333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7308360" y="429264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308360" y="501336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308360" y="537372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308360" y="609300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308720" y="465300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308720" y="573372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ddrive"/>
          <p:cNvSpPr/>
          <p:nvPr/>
        </p:nvSpPr>
        <p:spPr>
          <a:xfrm>
            <a:off x="6732720" y="1700280"/>
            <a:ext cx="1809720" cy="9046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12000" y="227664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564000" y="335736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564000" y="3357720"/>
            <a:ext cx="244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012000" y="227628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4840" y="6245280"/>
            <a:ext cx="4032000" cy="398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フォルダの整理ができていない状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30760" y="6284880"/>
            <a:ext cx="2735280" cy="398880"/>
          </a:xfrm>
          <a:prstGeom prst="rect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カテゴリ別分類・階層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948360" y="270828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外部メディ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暗号通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87280" y="5373720"/>
            <a:ext cx="6769440" cy="1191240"/>
          </a:xfrm>
          <a:prstGeom prst="rect">
            <a:avLst/>
          </a:prstGeom>
          <a:noFill/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．暗号の仕組みを複数のユーザで共有可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２．仕組みを知っていても、鍵がなければ解読困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３．鍵を安全に配送することが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4941720"/>
            <a:ext cx="4248360" cy="459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ネットワーク暗号に必要な条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716360" y="2133720"/>
            <a:ext cx="4105440" cy="21682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835280" y="2276640"/>
            <a:ext cx="2160360" cy="862560"/>
          </a:xfrm>
          <a:prstGeom prst="rect">
            <a:avLst/>
          </a:prstGeom>
          <a:noFill/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信の「盗聴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データの「改ざん」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4360" y="3357720"/>
            <a:ext cx="2087280" cy="45972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信の暗号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1844640"/>
            <a:ext cx="3313080" cy="39888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ネットワーク上の脅威（攻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00000" y="2349360"/>
            <a:ext cx="792360" cy="935280"/>
          </a:xfrm>
          <a:prstGeom prst="downArrow">
            <a:avLst>
              <a:gd name="adj1" fmla="val 50000"/>
              <a:gd name="adj2" fmla="val 2950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42920" y="3860640"/>
            <a:ext cx="3888000" cy="862560"/>
          </a:xfrm>
          <a:prstGeom prst="rect">
            <a:avLst/>
          </a:prstGeom>
          <a:noFill/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送信データを暗号化し隠蔽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暗号化・復号化には「鍵」が必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03640" y="3141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524720" y="3141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4292640"/>
            <a:ext cx="1800360" cy="78552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隠蔽された文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［暗号文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19640" y="1484280"/>
            <a:ext cx="9367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送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36000" y="1484280"/>
            <a:ext cx="936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受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184464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［平文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28000" y="184464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［平文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5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暗号の仕組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1773360"/>
            <a:ext cx="86508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換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1773360"/>
            <a:ext cx="5329440" cy="1191240"/>
          </a:xfrm>
          <a:prstGeom prst="rect">
            <a:avLst/>
          </a:prstGeom>
          <a:noFill/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平　文　　ＡＢＣＤＥ・・・ＸＹ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↓↓↓↓↓ 　　 ↓↓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暗号文　　ＫＧＷＱＢ・・・ＣＲ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51640" y="1773360"/>
            <a:ext cx="1297080" cy="1206360"/>
          </a:xfrm>
          <a:prstGeom prst="rect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ＣＡ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↓↓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ＷＫ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77080" y="1773360"/>
            <a:ext cx="5763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7280" y="3141720"/>
            <a:ext cx="6985080" cy="8467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ある規則（変換テーブル）に基づいて文字を別な文字に変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上記の換字暗号では変換テーブルが共通の「鍵」とな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4292640"/>
            <a:ext cx="86508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転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87280" y="4292640"/>
            <a:ext cx="6121440" cy="1191240"/>
          </a:xfrm>
          <a:prstGeom prst="rect">
            <a:avLst/>
          </a:prstGeom>
          <a:noFill/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平文　　ＫＩＮＤ　ＡＩＫＡ　ＧＡＫ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鍵　　　２４１３　２４１３　２４１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暗号文　ＮＫＤＩ　ＫＡＡＩ　ＫＧＵ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87280" y="5589720"/>
            <a:ext cx="7056720" cy="8625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文字の順序をある規則に従って入れ替え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上記の転置暗号では「２４１３」（置き換えの規則）が「鍵」とな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5.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共通鍵暗号方式　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47640" y="2349360"/>
            <a:ext cx="7345440" cy="1326240"/>
          </a:xfrm>
          <a:prstGeom prst="rect">
            <a:avLst/>
          </a:prstGeom>
          <a:noFill/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共通鍵暗号方式の代表例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70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年代、アメリカ商務省でネットワーク用に規格化（標準化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換字（１６段階）と転置（２回）を組み合わせて暗号化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2349360"/>
            <a:ext cx="93636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ＤＥ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9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こんにち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6072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*FP$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29080" y="4508640"/>
            <a:ext cx="50148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56360" y="4508640"/>
            <a:ext cx="50472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4292640"/>
            <a:ext cx="628920" cy="406440"/>
          </a:xfrm>
          <a:prstGeom prst="rightArrow">
            <a:avLst>
              <a:gd name="adj1" fmla="val 50000"/>
              <a:gd name="adj2" fmla="val 3868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661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こんにち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0544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*FP$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13080" y="4653000"/>
            <a:ext cx="936720" cy="936720"/>
          </a:xfrm>
          <a:prstGeom prst="upArrowCallout">
            <a:avLst>
              <a:gd name="adj1" fmla="val 25002"/>
              <a:gd name="adj2" fmla="val 25000"/>
              <a:gd name="adj3" fmla="val 16667"/>
              <a:gd name="adj4" fmla="val 666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共通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869080" y="4651200"/>
            <a:ext cx="936360" cy="936720"/>
          </a:xfrm>
          <a:prstGeom prst="upArrowCallout">
            <a:avLst>
              <a:gd name="adj1" fmla="val 25002"/>
              <a:gd name="adj2" fmla="val 25000"/>
              <a:gd name="adj3" fmla="val 16673"/>
              <a:gd name="adj4" fmla="val 666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共通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476360" y="5157720"/>
            <a:ext cx="852480" cy="4460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948360" y="515772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34000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4036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40360" y="3860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2720" y="3859200"/>
            <a:ext cx="93672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送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813800" y="3859200"/>
            <a:ext cx="936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受信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5734080"/>
            <a:ext cx="3384360" cy="790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鍵は安全な経路で交換が必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通信の相手によって鍵を変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rot="5400000">
            <a:off x="6190920" y="5770080"/>
            <a:ext cx="576360" cy="503280"/>
          </a:xfrm>
          <a:custGeom>
            <a:avLst/>
            <a:gdLst>
              <a:gd name="textAreaLeft" fmla="*/ -360 w 576360"/>
              <a:gd name="textAreaRight" fmla="*/ 57636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303280" y="5770080"/>
            <a:ext cx="576360" cy="503280"/>
          </a:xfrm>
          <a:custGeom>
            <a:avLst/>
            <a:gdLst>
              <a:gd name="textAreaLeft" fmla="*/ 0 w 576360"/>
              <a:gd name="textAreaRight" fmla="*/ 57672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71640" y="1628640"/>
            <a:ext cx="705636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共通鍵暗号：暗号化と復号化に共通の鍵を使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4356000" y="4365000"/>
            <a:ext cx="647640" cy="1511280"/>
          </a:xfrm>
          <a:custGeom>
            <a:avLst/>
            <a:gdLst>
              <a:gd name="textAreaLeft" fmla="*/ 101160 w 647640"/>
              <a:gd name="textAreaRight" fmla="*/ 567000 w 647640"/>
              <a:gd name="textAreaTop" fmla="*/ 377640 h 1511280"/>
              <a:gd name="textAreaBottom" fmla="*/ 1133640 h 15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5.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公開鍵暗号方式　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SA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89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こんにち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6072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L$J2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9080" y="4508640"/>
            <a:ext cx="50148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56360" y="4508640"/>
            <a:ext cx="50472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56000" y="4292640"/>
            <a:ext cx="628920" cy="406440"/>
          </a:xfrm>
          <a:prstGeom prst="rightArrow">
            <a:avLst>
              <a:gd name="adj1" fmla="val 50000"/>
              <a:gd name="adj2" fmla="val 38685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61080" y="4292640"/>
            <a:ext cx="1440000" cy="358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こんにち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05440" y="4292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L$J2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13080" y="4653000"/>
            <a:ext cx="1079280" cy="936720"/>
          </a:xfrm>
          <a:prstGeom prst="upArrowCallout">
            <a:avLst>
              <a:gd name="adj1" fmla="val 28807"/>
              <a:gd name="adj2" fmla="val 28805"/>
              <a:gd name="adj3" fmla="val 16667"/>
              <a:gd name="adj4" fmla="val 66660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公開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96000" y="4651200"/>
            <a:ext cx="1009440" cy="936720"/>
          </a:xfrm>
          <a:prstGeom prst="upArrowCallout">
            <a:avLst>
              <a:gd name="adj1" fmla="val 26943"/>
              <a:gd name="adj2" fmla="val 26941"/>
              <a:gd name="adj3" fmla="val 16667"/>
              <a:gd name="adj4" fmla="val 666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秘密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877080" y="501336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34000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40360" y="386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復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40360" y="3860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5280" y="3860640"/>
            <a:ext cx="1584360" cy="3682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ゴシック"/>
              </a:rPr>
              <a:t>送信者</a:t>
            </a:r>
            <a:r>
              <a:rPr b="1" lang="en-US" sz="1800" spc="-1" strike="noStrike">
                <a:solidFill>
                  <a:srgbClr val="000000"/>
                </a:solidFill>
                <a:latin typeface="ＭＳ Ｐゴシック"/>
              </a:rPr>
              <a:t>(Al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51640" y="3860640"/>
            <a:ext cx="1441440" cy="3682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ゴシック"/>
              </a:rPr>
              <a:t>受信者</a:t>
            </a:r>
            <a:r>
              <a:rPr b="1" lang="en-US" sz="1800" spc="-1" strike="noStrike">
                <a:solidFill>
                  <a:srgbClr val="000000"/>
                </a:solidFill>
                <a:latin typeface="ＭＳ Ｐゴシック"/>
              </a:rPr>
              <a:t>(Bo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03640" y="5805360"/>
            <a:ext cx="3097080" cy="863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秘密鍵は受信者だけが保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公開鍵を送信者に配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0920" y="1628640"/>
            <a:ext cx="86756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開鍵暗号：２本の鍵を生成し、そのうちの１本を公開（配布）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2349360"/>
            <a:ext cx="93636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ＲＳ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47640" y="2349360"/>
            <a:ext cx="6769440" cy="1326240"/>
          </a:xfrm>
          <a:prstGeom prst="rect">
            <a:avLst/>
          </a:prstGeom>
          <a:noFill/>
          <a:ln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公開鍵暗号方式の代表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３人の発案者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.Rives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.Shami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.Adlem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イニシャ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鍵配送の安全性や本数増加の問題を解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258920" y="5013360"/>
            <a:ext cx="1081080" cy="5763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H="1" rot="5400000">
            <a:off x="6264000" y="5841360"/>
            <a:ext cx="576360" cy="503280"/>
          </a:xfrm>
          <a:custGeom>
            <a:avLst/>
            <a:gdLst>
              <a:gd name="textAreaLeft" fmla="*/ -360 w 576360"/>
              <a:gd name="textAreaRight" fmla="*/ 57636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6200000">
            <a:off x="2663640" y="5770080"/>
            <a:ext cx="576360" cy="503280"/>
          </a:xfrm>
          <a:custGeom>
            <a:avLst/>
            <a:gdLst>
              <a:gd name="textAreaLeft" fmla="*/ 0 w 576360"/>
              <a:gd name="textAreaRight" fmla="*/ 57672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4356000" y="4365000"/>
            <a:ext cx="647640" cy="1511280"/>
          </a:xfrm>
          <a:custGeom>
            <a:avLst/>
            <a:gdLst>
              <a:gd name="textAreaLeft" fmla="*/ 101160 w 647640"/>
              <a:gd name="textAreaRight" fmla="*/ 567000 w 647640"/>
              <a:gd name="textAreaTop" fmla="*/ 377640 h 1511280"/>
              <a:gd name="textAreaBottom" fmla="*/ 1133640 h 15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5.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公開鍵の認証機関　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093080" y="1628640"/>
            <a:ext cx="158436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偽装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796000" y="1989000"/>
            <a:ext cx="1657440" cy="13557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971640" y="2082960"/>
            <a:ext cx="1733400" cy="1342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 flipH="1">
            <a:off x="2987280" y="256536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48000" y="170028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公開鍵を配布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なりすま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43280" y="292428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公開鍵で暗号化して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87640" y="2852640"/>
            <a:ext cx="2376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451640" y="270828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秘密鍵で複号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19280" y="1773360"/>
            <a:ext cx="10810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ユー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3708360" y="3789360"/>
            <a:ext cx="1368360" cy="13604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5940360" y="5229360"/>
            <a:ext cx="1736640" cy="12016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1042920" y="5157720"/>
            <a:ext cx="1733760" cy="13431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203640" y="580536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00000" y="4653000"/>
            <a:ext cx="10810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ユー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93080" y="4941720"/>
            <a:ext cx="1295280" cy="459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2700000" y="4653000"/>
            <a:ext cx="107964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48360" y="4653000"/>
            <a:ext cx="1079280" cy="71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43280" y="3789360"/>
            <a:ext cx="144000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認証機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4365720"/>
            <a:ext cx="187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公開鍵・秘密鍵証明書発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050920" y="4149720"/>
            <a:ext cx="15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サイトの公開鍵入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16360" y="609300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公開鍵で暗号化して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667640" y="573408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秘密鍵で複号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0920" y="3573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0920" y="3716280"/>
            <a:ext cx="1871640" cy="3682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なりすましを防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00:16:05Z</dcterms:created>
  <dc:creator>T.Yamazumi</dc:creator>
  <dc:description/>
  <dc:language>en-US</dc:language>
  <cp:lastModifiedBy>T.Yamazumi</cp:lastModifiedBy>
  <dcterms:modified xsi:type="dcterms:W3CDTF">2005-12-15T02:06:10Z</dcterms:modified>
  <cp:revision>96</cp:revision>
  <dc:subject/>
  <dc:title>ネットワーク社会の 情報倫理</dc:title>
</cp:coreProperties>
</file>