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0E527-DE8E-4896-BE53-9729058D7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5BF5-11FE-4BE9-A932-12C0564BF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4B6AE-4A9D-4780-93CE-C56BF3AF6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F3B67-0895-4565-8CDC-83CE7D4F0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40CE2-E453-44A4-88B4-7FB1A435F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3AD40-7B2C-4924-8DD9-FC7BB8E3F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DC3AE-0FBC-448D-B66E-46177F133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C27F4-873F-423E-8874-B84D9DB5A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7E753-1F96-4BDA-9C6B-3926A3C13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5A78C-CCAA-497B-ACA9-19B853DF2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B2A2F-AC25-4958-90AA-D9D2B0FD4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2B3FC-64EF-4798-B89F-3AB250258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D4B6E-3431-4464-A7B8-BBF9C1374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77B9B-DF58-4C65-8770-BAF885C67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C21C0-AE4C-400F-A3C6-1BD9DE509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E2AA1-2078-4B80-9CA9-4B982C259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E69B7-1E1B-4B14-AE9E-FD5F34B03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2CCED7-7315-4945-83D6-07D610BD0E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39AFCD-9485-4187-A8D9-66EAB8B2D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9E1E3-10DB-49DC-B39E-1F79DD6C1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E7597-7157-4CC6-AD1F-A4306F52E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F37E2-9C69-4F05-84C1-0B5F57288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EC599-ADD5-4E61-9BDD-1B892954C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67E715-8E7B-48C0-B784-8CBBA45EB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9D6FF-59C1-4227-A4A3-06B24C3C4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5D208-EB66-4A06-85CB-82910C024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942DC-DAB4-43D4-953C-FBA421A7E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4B6B7-2DCD-4AB4-BC63-DE013A68B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EEB3AE-0017-41A0-A69F-423F67BAE8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83FB9-05E7-4854-B62C-3F51414850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FDD6B7-BD88-42E3-B277-94EE3F274F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D0FF1-1906-4784-AF35-972C4FF3F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32B36-3E7D-408C-B0F4-EE6ECD9EA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82AFF-8740-417E-81FB-139CD51CA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2ABE7F-392D-453B-9A86-27BE6E431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BD59A-CA96-45CB-BD41-DC3B80E71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8DF08-6215-4765-8685-1C9F6EC22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23D57-1329-4E7A-9120-2B6E261AA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F171B-70F2-43BD-8C21-C6251A9D3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2FB5F-0A09-4333-ADEB-7FE13766B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CC194-BE0C-4EF5-B358-00B2863E34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A20B5A-FD22-43FE-A6AD-1C49D0687D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535513-D5AB-4FA0-928B-3A6361295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4DB3A7-9215-4110-9929-704E4730F0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8F49C-7722-4FEB-A242-FFE8DB4F5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AD53CE-8D9B-4053-8094-51555E9B9D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31C390-6497-417F-A238-1D7D6B6F9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3EE24-6311-42F4-B821-70B052C7C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A5452-0E30-48A3-BAE9-F41880C1A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8AA07-B008-46E3-8759-C6083A5A8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362CE-5C09-453C-AFAD-BFB7BB94F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98642-3F88-475F-AE51-402293824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A397F-6C5B-4EF0-B504-41F1F0BD6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5EF034-077F-4F50-BD04-DF2B7E3580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EAD1B-84CC-48DE-BECA-7D941706E5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E7FA2-1508-44FD-A5DB-8416C394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C8FF18-EA60-4408-9085-FB25D3DBED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D3B86A-EF93-4E48-AEF2-0C6B44848A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DD9981-39E0-4CBF-BE6E-47ACDD7C7A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439C7-13CD-43A2-B463-C556031EDD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9C5A68-6549-43E8-82CE-8E3538C1B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1EBF2E-F13A-4E54-A826-C94BCE12F6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BB459-FDEC-4716-91C6-B9448EE6D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57A45-B23E-496D-9112-069DE4C439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7DEB7-9850-4D3F-A8D7-8156641B5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AB242-665F-4E09-A907-BD234FE835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BDCD-F8BA-423C-817E-D03AF3DB8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049CB-61D4-441B-8D7B-65C977CBD4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0CEAB1-D76B-414E-A176-20BDF8F4CD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8ADD95-2E8E-4C5D-B739-7E8CB3EB34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CD1171-AAC4-4A0C-AE23-D7A73BCF10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4A25F4-48C0-40EC-BB06-83BF3FDD60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B47E0F-6633-49BD-BD9F-FA5FBC83AD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A2D347-364D-41F2-85D7-7DA589197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F28886-8265-4E86-8779-A4A04C744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E76EC3-33F2-4320-937E-24C829558B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AA4D44-80CF-44AC-9446-73A3C15E5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3949F-63F6-4FE8-B350-82E51B8C3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5F609-C7CF-4531-AB7D-2E10E2567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C4F0F-C03E-4021-9BD0-49DC03FA4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2D361-B037-4DEC-AF8C-5257E9A43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2E4C47-9E3A-4C5C-9F6C-20CB2E8038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6BC4DA-92FD-47F9-A970-4A38EFFFB9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B35F06-E126-48D8-81EF-193D4140ED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AF55FE-F6B7-4CA7-9FF1-C3593205D6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6A7A1-E6E0-4427-A3BA-02978A0970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98BEA-24EC-4AE4-B119-DF555468D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61CB5-1789-47AF-BDBD-6242002CD3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9C4AE-AA49-42A8-8118-9B3728D5F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FFE320-D691-424D-A936-07908AE3CB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C32A5-2704-4924-9239-28CDBD1B38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7EBE9D-7D60-4A5F-B91F-218990FDF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4DA4D-6601-4096-BCF1-BD8EA16DE3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1C9319-79DE-4F8E-8038-E2A2CF448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F2CF6A-2EEE-4718-BB0D-590BA36D2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FCF530-0DA6-4407-8CD4-F0398E8EE1C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0E87-84AF-44E3-9AD2-F5AD9F1695EB}"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E302-F87F-455A-8080-1EDA34853A1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8898-5627-4468-84F8-630EBAC3BE7D}"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D778-2054-47C2-8594-079A69AB5BF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E1F5-33CD-4766-B0FC-13605C74A8C7}" type="datetime">
              <a:rPr b="0" lang="ja-JP" sz="1400" spc="-1" strike="noStrike">
                <a:solidFill>
                  <a:srgbClr val="dde9ec"/>
                </a:solidFill>
                <a:latin typeface="Times New Roman"/>
              </a:rPr>
              <a:t>26/07/29</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A41B-E37B-43D1-8DF9-710887D52190}"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DC9A-88D6-48ED-AA81-FCD37D8C570D}"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5072-2C38-4729-9AE5-493F1A9ED48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11F3-A101-48A4-A754-D6A34C0FBD1F}"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8497-C921-4570-8DEF-49723516BE9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4892-0154-453C-8587-9C5FF395ED1A}"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DEC8-51BB-49A7-8771-912FC89E0185}"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8912-9EE5-468A-9E40-7BA342415196}" type="datetime">
              <a:rPr b="0" lang="ja-JP" sz="1400" spc="-1" strike="noStrike">
                <a:solidFill>
                  <a:srgbClr val="dde9ec"/>
                </a:solidFill>
                <a:latin typeface="Times New Roman"/>
              </a:rPr>
              <a:t>26/07/29</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52E1-8D31-442D-B583-6D2A7DB3048A}"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768F-2AD2-4C80-8C46-F097935C620A}"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BF8D-8096-429B-AE7D-03265FCD8C6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B2B0-086A-455C-B8F5-4521F854E9E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C04F-BBF1-4EFB-A041-9F28CDD253F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8B91-EB69-4CF2-9A5E-7D0813742C7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6B8A-AD56-4227-96E1-84D6F8CEF5F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1CEC-0687-444E-8512-D3C04D47710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2752-92D8-46A7-BA7D-72547AB0DD8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1705-B63A-4AD7-9B5B-1FB69087C07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2941-640B-4CA0-873A-07FE3A6CC73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177F-CD03-4EBB-BFE7-4BE9417CF2B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DFA9-BF81-4B08-98C3-A23E565F2DE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4616-DA54-4611-A913-358AB025253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AF39-29B8-47A4-BAAE-ABFCE619950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