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BB4A-22C9-4911-8452-273D6DEA8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ADE-D3D4-48BB-A36E-E4933869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5F5-4152-4E8C-A79E-483709D6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3FF-D9CB-47F3-BBAC-5F4A9016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7B4-661A-474A-8B47-C9BF7A5C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773F-61F7-40E3-A80B-739F4731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21E5-AF46-4F24-8DEA-C910C81A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0753-7F20-41C1-ACC2-18AFB65C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3734-46F6-4207-93BB-2D1F1436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4EE9-94DE-4B16-AAAF-01C99107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8D3F-3EDE-4FD0-83D9-DE5E57B4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68EE-9EED-4D44-8E40-A0BFAEC2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3F0-9202-47A5-9647-7FB52FE2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33E3-5ED1-4B80-AB5C-F02FC155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7A77-E328-4A7D-B107-5A986BB3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962F-3FF5-4630-8BEB-603EE828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EB7C-6D0B-4648-B339-6C884945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CBEE-CCE7-4F03-86AB-66A8C2BF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8062D-30C0-4BB4-9A18-D0DD99A2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E284C-3CE7-421E-BE11-7B13A8F6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206E7-1B7C-463C-A669-A05DD398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8926-9C12-428D-9CC8-A30CA26D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7B48E-E498-4606-8681-8B242766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356-11D7-4D84-A404-8C4C2B9F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5D212-65B5-4DCE-81D0-28914EEE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B7D34-1619-4A72-9E5E-E08A640C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5D55-C94F-41E2-94DB-87AB1707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7FFAE-7B58-47B0-ABD7-E3B1A549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129CC-5E63-4485-A0D8-65C01E11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F8B2E-5F53-4A44-8D96-63875118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9DB84-3FB6-42E2-A5DA-C1CF41FB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BA306-1AEA-4BF3-BADF-944631C1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43EAE-0A5D-4F25-9EAA-D7D4FD93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E9A3-F2AD-48A9-AE5B-D8666510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743-24B4-4AF3-AC59-3E58B26D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F8870-10E1-4DFD-975D-A98C07CD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84EAA-4C8C-4D03-BDB6-35373FBA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5E034-0795-4A8A-8F74-B27F8AD3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C590A-0331-40B5-A407-E9244FD7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7531E-B803-4912-A52A-69A3EF20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36E7A-A38D-4327-975B-58CC5D0A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EA4A4-9282-4EFE-87FC-C41F2070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3D2EF-404C-4AC5-9024-F62CB700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18730-4D1D-474C-9C69-4EA61D14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AD9B0-4143-4D0E-A4E7-4FAEE8A8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214-56BE-4AC4-89F2-5303589F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A93EC-AD7C-4500-B8EB-E04488D1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854D1-7AFF-4AF7-98F5-1896C07C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B70A8-2170-4471-BA8F-7EC26531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AB96C-58B7-4FF4-B517-1D9C7C5D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4C0B7-DA62-415A-BAF3-F553AF63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B27B7-79C2-44C9-B837-61FAFD5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7A348-DF34-4475-89ED-32ECECC5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E978C-3B16-4D26-8A2A-5D85FF99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799BE-920F-4BB8-932D-B84DE948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566A6-24C4-44E1-819E-CC698E82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7D4-25A4-44D7-8E27-AAD1C321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57FA7-E2DE-4801-B502-795A539C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C6591-F6AB-4439-9127-1EEFD572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687C6-E6C1-41A2-A391-477D12A5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F72AD-8993-4CC2-B14A-3DF5EC97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7B512-DCE8-442A-B43E-535B0CBB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3ACCC-4015-416B-AFB4-9B985C18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3AB3E-2606-484C-BFBC-1ED09CC9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43EC2-06EA-419F-8FA6-0DA5BBBD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35AFE-F23D-40B2-A0A9-CF3F7CAB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D759F-E405-4388-87F1-62A84C2D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170-3A85-4E77-8072-C1BE240D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A579B-EB6E-4E7C-980F-BF5B7107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E1919-2F0B-4EBC-8C45-1BB469DE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31741-6AF1-406D-91C1-136BEDE1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4D919-42AD-4A3B-9FB7-7E8114BB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EF290-52A9-4643-8616-C5F406B6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1E1E4-2CA3-462A-86F7-DC11BF78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BC69A-A7B1-4946-AE19-A8FA7CF3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76B31-5E70-446D-BC9E-0A0B6AC8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368BA-15A9-427A-AABC-16657E25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A817E-0CEE-425B-80ED-E7E0E840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157-8B7F-4919-AE5A-076A99E4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F7FB1-C5EA-4105-840A-4FF5220B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240FD-D0F4-467C-9331-51A06395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E2B4B-93BA-4610-A8D0-160F2589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8E3B9-D1D8-46C0-ABB6-8EDFC7CA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F6523-2D81-43A8-9F4B-A5C5154D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7FBE5-C1A7-4418-8EF4-02609A44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F6634-1774-4950-8970-8E561E03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7D3FF-4857-4122-945C-83721F83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A3744-5A4C-4BFC-B922-61DF3B55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1BDBD-D4EA-48FE-A355-BB02CC74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22F-4091-484B-8F2F-4C54EE3D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CA5CA-3120-4744-B310-197724A6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1E5B6-5200-4B8B-B0CB-40A99A97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48D75-1AF1-44AE-B0D1-FD043D5F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BCD4A-F15B-46DD-A63B-2179C3FF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40AE3-340A-4CBD-BAF1-364E4D47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BAA06-7095-49FF-8E42-B7E212C0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C699D-8CF6-4A70-B9BA-479A2FEA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9346-AA41-41A1-B315-2597F266FF9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87DF-EC43-4C88-AF4F-62065E70F72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8D42-1C63-4210-AA2F-92D3A3AE527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B452-2E94-4D7C-893E-C4832E25D1F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8EF8-6E0D-4015-A8A0-97BEF1E4189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311B-BE0A-4849-9BEA-F3B9791D7E3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9582-CFBC-411B-81B1-CA0DB1571E0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1A24-5A35-437C-BC31-B479DB61A62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9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有害情報の掲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2" name="AutoShape 5"/>
          <p:cNvGrpSpPr/>
          <p:nvPr/>
        </p:nvGrpSpPr>
        <p:grpSpPr>
          <a:xfrm>
            <a:off x="4863960" y="2170080"/>
            <a:ext cx="920880" cy="639720"/>
            <a:chOff x="4863960" y="2170080"/>
            <a:chExt cx="920880" cy="639720"/>
          </a:xfrm>
        </p:grpSpPr>
        <p:pic>
          <p:nvPicPr>
            <p:cNvPr id="503" name="AutoShape 5" descr=""/>
            <p:cNvPicPr/>
            <p:nvPr/>
          </p:nvPicPr>
          <p:blipFill>
            <a:blip r:embed="rId1"/>
            <a:stretch/>
          </p:blipFill>
          <p:spPr>
            <a:xfrm>
              <a:off x="4863960" y="2170080"/>
              <a:ext cx="9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27480" y="2214720"/>
              <a:ext cx="395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2C06-4899-4C5F-9555-5E07C1B3256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テキスト ボックス 14"/>
          <p:cNvSpPr/>
          <p:nvPr/>
        </p:nvSpPr>
        <p:spPr>
          <a:xfrm>
            <a:off x="571680" y="1357200"/>
            <a:ext cx="4071600" cy="20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自殺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方法の情報交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仲間を募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練炭、硫化水素自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犯罪を誘引する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犯罪の共謀や請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泥棒や殺人の方法などを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テキスト ボックス 15"/>
          <p:cNvSpPr/>
          <p:nvPr/>
        </p:nvSpPr>
        <p:spPr>
          <a:xfrm>
            <a:off x="5929200" y="1500120"/>
            <a:ext cx="1928880" cy="36828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言論・表現の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16"/>
          <p:cNvSpPr/>
          <p:nvPr/>
        </p:nvSpPr>
        <p:spPr>
          <a:xfrm>
            <a:off x="5929200" y="3000240"/>
            <a:ext cx="1928880" cy="3682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情報・悪影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上下矢印 17"/>
          <p:cNvSpPr/>
          <p:nvPr/>
        </p:nvSpPr>
        <p:spPr>
          <a:xfrm>
            <a:off x="6572160" y="2000160"/>
            <a:ext cx="642960" cy="857520"/>
          </a:xfrm>
          <a:prstGeom prst="up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テキスト ボックス 18"/>
          <p:cNvGrpSpPr/>
          <p:nvPr/>
        </p:nvGrpSpPr>
        <p:grpSpPr>
          <a:xfrm>
            <a:off x="384120" y="4359240"/>
            <a:ext cx="4889520" cy="530280"/>
            <a:chOff x="384120" y="4359240"/>
            <a:chExt cx="4889520" cy="530280"/>
          </a:xfrm>
        </p:grpSpPr>
        <p:pic>
          <p:nvPicPr>
            <p:cNvPr id="512" name="テキスト ボックス 18" descr=""/>
            <p:cNvPicPr/>
            <p:nvPr/>
          </p:nvPicPr>
          <p:blipFill>
            <a:blip r:embed="rId2"/>
            <a:stretch/>
          </p:blipFill>
          <p:spPr>
            <a:xfrm>
              <a:off x="384120" y="4359240"/>
              <a:ext cx="4889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500040" y="4429080"/>
              <a:ext cx="471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青少年ネット規制法（有害サイト規制法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テキスト ボックス 19"/>
          <p:cNvSpPr/>
          <p:nvPr/>
        </p:nvSpPr>
        <p:spPr>
          <a:xfrm>
            <a:off x="785880" y="4857840"/>
            <a:ext cx="72864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携帯電話の事業者やパソコンメーカーに対しフィルタリングを義務づけ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か否かの基準を民間の第三者機関が策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下矢印 22"/>
          <p:cNvGrpSpPr/>
          <p:nvPr/>
        </p:nvGrpSpPr>
        <p:grpSpPr>
          <a:xfrm>
            <a:off x="1979640" y="3573360"/>
            <a:ext cx="1341360" cy="765360"/>
            <a:chOff x="1979640" y="3573360"/>
            <a:chExt cx="1341360" cy="765360"/>
          </a:xfrm>
        </p:grpSpPr>
        <p:pic>
          <p:nvPicPr>
            <p:cNvPr id="516" name="下矢印 22" descr=""/>
            <p:cNvPicPr/>
            <p:nvPr/>
          </p:nvPicPr>
          <p:blipFill>
            <a:blip r:embed="rId3"/>
            <a:stretch/>
          </p:blipFill>
          <p:spPr>
            <a:xfrm>
              <a:off x="1979640" y="3573360"/>
              <a:ext cx="134136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349360" y="3607560"/>
              <a:ext cx="607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知的財産権の侵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85520" y="3500280"/>
            <a:ext cx="7643880" cy="15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他の人が作ったデータには、全て著作権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(Copyright)</a:t>
            </a: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がある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売り物であるなしにかかわらず、他人の作成したものを勝手にコピーして公開したり配布してはいけない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例外：著作権フリーのデータ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著作権はあるが、利用者に複製や配布を認めている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42960" y="1643040"/>
            <a:ext cx="5800680" cy="41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ジタルデータはすべてファイル単位で扱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Rectangle 6"/>
          <p:cNvGrpSpPr/>
          <p:nvPr/>
        </p:nvGrpSpPr>
        <p:grpSpPr>
          <a:xfrm>
            <a:off x="884160" y="2103480"/>
            <a:ext cx="4894200" cy="914400"/>
            <a:chOff x="884160" y="2103480"/>
            <a:chExt cx="4894200" cy="914400"/>
          </a:xfrm>
        </p:grpSpPr>
        <p:pic>
          <p:nvPicPr>
            <p:cNvPr id="366" name="Rectangle 6" descr=""/>
            <p:cNvPicPr/>
            <p:nvPr/>
          </p:nvPicPr>
          <p:blipFill>
            <a:blip r:embed="rId1"/>
            <a:stretch/>
          </p:blipFill>
          <p:spPr>
            <a:xfrm>
              <a:off x="884160" y="2103480"/>
              <a:ext cx="4894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00080" y="2143080"/>
              <a:ext cx="4714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メディアからメディアへのコピーが容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Web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で公開可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AutoShape 8"/>
          <p:cNvGrpSpPr/>
          <p:nvPr/>
        </p:nvGrpSpPr>
        <p:grpSpPr>
          <a:xfrm>
            <a:off x="2571840" y="2968560"/>
            <a:ext cx="1280880" cy="573120"/>
            <a:chOff x="2571840" y="2968560"/>
            <a:chExt cx="1280880" cy="573120"/>
          </a:xfrm>
        </p:grpSpPr>
        <p:pic>
          <p:nvPicPr>
            <p:cNvPr id="369" name="AutoShape 8" descr=""/>
            <p:cNvPicPr/>
            <p:nvPr/>
          </p:nvPicPr>
          <p:blipFill>
            <a:blip r:embed="rId2"/>
            <a:stretch/>
          </p:blipFill>
          <p:spPr>
            <a:xfrm>
              <a:off x="2571840" y="2968560"/>
              <a:ext cx="1280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928960" y="3000240"/>
              <a:ext cx="5713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フッター プレースホルダ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228A-83AD-4AD9-BF19-06A80B3AE12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テキスト ボックス 9"/>
          <p:cNvSpPr/>
          <p:nvPr/>
        </p:nvSpPr>
        <p:spPr>
          <a:xfrm>
            <a:off x="428760" y="121428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6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HG明朝E"/>
                <a:ea typeface="HG明朝E"/>
              </a:rPr>
              <a:t>デジタルデータと著作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テキスト ボックス 10"/>
          <p:cNvGrpSpPr/>
          <p:nvPr/>
        </p:nvGrpSpPr>
        <p:grpSpPr>
          <a:xfrm>
            <a:off x="2444760" y="5284800"/>
            <a:ext cx="5834160" cy="561960"/>
            <a:chOff x="2444760" y="5284800"/>
            <a:chExt cx="5834160" cy="561960"/>
          </a:xfrm>
        </p:grpSpPr>
        <p:pic>
          <p:nvPicPr>
            <p:cNvPr id="375" name="テキスト ボックス 10" descr=""/>
            <p:cNvPicPr/>
            <p:nvPr/>
          </p:nvPicPr>
          <p:blipFill>
            <a:blip r:embed="rId3"/>
            <a:stretch/>
          </p:blipFill>
          <p:spPr>
            <a:xfrm>
              <a:off x="2444760" y="5284800"/>
              <a:ext cx="5834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571840" y="5357880"/>
              <a:ext cx="564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ジタルデータのコピーは著作権を確かめてか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右矢印 11"/>
          <p:cNvGrpSpPr/>
          <p:nvPr/>
        </p:nvGrpSpPr>
        <p:grpSpPr>
          <a:xfrm>
            <a:off x="1359000" y="5241960"/>
            <a:ext cx="1060200" cy="780840"/>
            <a:chOff x="1359000" y="5241960"/>
            <a:chExt cx="1060200" cy="780840"/>
          </a:xfrm>
        </p:grpSpPr>
        <p:pic>
          <p:nvPicPr>
            <p:cNvPr id="378" name="右矢印 11" descr=""/>
            <p:cNvPicPr/>
            <p:nvPr/>
          </p:nvPicPr>
          <p:blipFill>
            <a:blip r:embed="rId4"/>
            <a:stretch/>
          </p:blipFill>
          <p:spPr>
            <a:xfrm>
              <a:off x="1359000" y="5241960"/>
              <a:ext cx="1060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428840" y="5446800"/>
              <a:ext cx="768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6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ファイル共有ソフ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テキスト ボックス 2"/>
          <p:cNvSpPr/>
          <p:nvPr/>
        </p:nvSpPr>
        <p:spPr>
          <a:xfrm>
            <a:off x="571680" y="1285920"/>
            <a:ext cx="492912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ファイル共有ソフ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File Sharing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214280" y="1714680"/>
            <a:ext cx="746136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複数のユーザ同士が、ファイルを共有するためのソフトウェ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ユーザが自分の欲しいファイルを入手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テキスト ボックス 4"/>
          <p:cNvGrpSpPr/>
          <p:nvPr/>
        </p:nvGrpSpPr>
        <p:grpSpPr>
          <a:xfrm>
            <a:off x="725400" y="3664080"/>
            <a:ext cx="4773600" cy="560160"/>
            <a:chOff x="725400" y="3664080"/>
            <a:chExt cx="4773600" cy="560160"/>
          </a:xfrm>
        </p:grpSpPr>
        <p:pic>
          <p:nvPicPr>
            <p:cNvPr id="384" name="テキスト ボックス 4" descr=""/>
            <p:cNvPicPr/>
            <p:nvPr/>
          </p:nvPicPr>
          <p:blipFill>
            <a:blip r:embed="rId1"/>
            <a:stretch/>
          </p:blipFill>
          <p:spPr>
            <a:xfrm>
              <a:off x="725400" y="3664080"/>
              <a:ext cx="4773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857160" y="371484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複製禁止のデータの共有は違法行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爆発 2 5"/>
          <p:cNvGrpSpPr/>
          <p:nvPr/>
        </p:nvGrpSpPr>
        <p:grpSpPr>
          <a:xfrm>
            <a:off x="5651640" y="2603520"/>
            <a:ext cx="2554200" cy="1846080"/>
            <a:chOff x="5651640" y="2603520"/>
            <a:chExt cx="2554200" cy="1846080"/>
          </a:xfrm>
        </p:grpSpPr>
        <p:pic>
          <p:nvPicPr>
            <p:cNvPr id="387" name="爆発 2 5" descr=""/>
            <p:cNvPicPr/>
            <p:nvPr/>
          </p:nvPicPr>
          <p:blipFill>
            <a:blip r:embed="rId2"/>
            <a:stretch/>
          </p:blipFill>
          <p:spPr>
            <a:xfrm>
              <a:off x="5651640" y="2603520"/>
              <a:ext cx="25542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319800" y="3149640"/>
              <a:ext cx="10414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著作権侵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テキスト ボックス 6"/>
          <p:cNvGrpSpPr/>
          <p:nvPr/>
        </p:nvGrpSpPr>
        <p:grpSpPr>
          <a:xfrm>
            <a:off x="738360" y="4230720"/>
            <a:ext cx="5473440" cy="811080"/>
            <a:chOff x="738360" y="4230720"/>
            <a:chExt cx="5473440" cy="811080"/>
          </a:xfrm>
        </p:grpSpPr>
        <p:pic>
          <p:nvPicPr>
            <p:cNvPr id="390" name="テキスト ボックス 6" descr=""/>
            <p:cNvPicPr/>
            <p:nvPr/>
          </p:nvPicPr>
          <p:blipFill>
            <a:blip r:embed="rId3"/>
            <a:stretch/>
          </p:blipFill>
          <p:spPr>
            <a:xfrm>
              <a:off x="738360" y="4230720"/>
              <a:ext cx="54734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857160" y="4286160"/>
              <a:ext cx="52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共有させることを目的に、サーバやパソコン上にファイルを置くことは著作権（公衆送信権）に抵触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下矢印 7"/>
          <p:cNvGrpSpPr/>
          <p:nvPr/>
        </p:nvGrpSpPr>
        <p:grpSpPr>
          <a:xfrm>
            <a:off x="1979640" y="2708280"/>
            <a:ext cx="1987560" cy="898560"/>
            <a:chOff x="1979640" y="2708280"/>
            <a:chExt cx="1987560" cy="898560"/>
          </a:xfrm>
        </p:grpSpPr>
        <p:pic>
          <p:nvPicPr>
            <p:cNvPr id="393" name="下矢印 7" descr=""/>
            <p:cNvPicPr/>
            <p:nvPr/>
          </p:nvPicPr>
          <p:blipFill>
            <a:blip r:embed="rId4"/>
            <a:stretch/>
          </p:blipFill>
          <p:spPr>
            <a:xfrm>
              <a:off x="1979640" y="2708280"/>
              <a:ext cx="198756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509920" y="2741760"/>
              <a:ext cx="9288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右矢印 8"/>
          <p:cNvGrpSpPr/>
          <p:nvPr/>
        </p:nvGrpSpPr>
        <p:grpSpPr>
          <a:xfrm>
            <a:off x="712800" y="5400720"/>
            <a:ext cx="1139760" cy="853920"/>
            <a:chOff x="712800" y="5400720"/>
            <a:chExt cx="1139760" cy="853920"/>
          </a:xfrm>
        </p:grpSpPr>
        <p:pic>
          <p:nvPicPr>
            <p:cNvPr id="396" name="右矢印 8" descr=""/>
            <p:cNvPicPr/>
            <p:nvPr/>
          </p:nvPicPr>
          <p:blipFill>
            <a:blip r:embed="rId5"/>
            <a:stretch/>
          </p:blipFill>
          <p:spPr>
            <a:xfrm>
              <a:off x="712800" y="5400720"/>
              <a:ext cx="11397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85880" y="5608800"/>
              <a:ext cx="820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テキスト ボックス 9"/>
          <p:cNvGrpSpPr/>
          <p:nvPr/>
        </p:nvGrpSpPr>
        <p:grpSpPr>
          <a:xfrm>
            <a:off x="1944720" y="5499000"/>
            <a:ext cx="5688000" cy="567000"/>
            <a:chOff x="1944720" y="5499000"/>
            <a:chExt cx="5688000" cy="567000"/>
          </a:xfrm>
        </p:grpSpPr>
        <p:pic>
          <p:nvPicPr>
            <p:cNvPr id="399" name="テキスト ボックス 9" descr=""/>
            <p:cNvPicPr/>
            <p:nvPr/>
          </p:nvPicPr>
          <p:blipFill>
            <a:blip r:embed="rId6"/>
            <a:stretch/>
          </p:blipFill>
          <p:spPr>
            <a:xfrm>
              <a:off x="1944720" y="5499000"/>
              <a:ext cx="5688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071800" y="5572080"/>
              <a:ext cx="550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ァイルの共有はファイルの著作権侵害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285D-8102-4CDD-B0D7-8185C81A507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電子メールやブログの悪用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テキスト ボックス 5"/>
          <p:cNvSpPr/>
          <p:nvPr/>
        </p:nvSpPr>
        <p:spPr>
          <a:xfrm>
            <a:off x="571680" y="128592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7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スパムメ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785880" y="3071880"/>
            <a:ext cx="2428920" cy="92880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特定電子メール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改正特定商取引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214280" y="4143240"/>
            <a:ext cx="7358400" cy="71460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受信者の承諾なく宣伝メールを配信することはすべて違法行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AutoShape 12"/>
          <p:cNvGrpSpPr/>
          <p:nvPr/>
        </p:nvGrpSpPr>
        <p:grpSpPr>
          <a:xfrm>
            <a:off x="1219320" y="4896000"/>
            <a:ext cx="6205320" cy="1425600"/>
            <a:chOff x="1219320" y="4896000"/>
            <a:chExt cx="6205320" cy="1425600"/>
          </a:xfrm>
        </p:grpSpPr>
        <p:pic>
          <p:nvPicPr>
            <p:cNvPr id="408" name="AutoShape 12" descr=""/>
            <p:cNvPicPr/>
            <p:nvPr/>
          </p:nvPicPr>
          <p:blipFill>
            <a:blip r:embed="rId1"/>
            <a:stretch/>
          </p:blipFill>
          <p:spPr>
            <a:xfrm>
              <a:off x="1219320" y="4896000"/>
              <a:ext cx="62053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346040" y="5060880"/>
              <a:ext cx="595476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スパムメール対策（自己防衛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スパムメールを受信しても開かずに削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フィルタリング機能の活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長めのアドレス設定（記号も含める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テキスト ボックス 12"/>
          <p:cNvSpPr/>
          <p:nvPr/>
        </p:nvSpPr>
        <p:spPr>
          <a:xfrm>
            <a:off x="1143000" y="1714680"/>
            <a:ext cx="585792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ユーザに対して勝手に送りつけてくる広告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受信者の承諾を得ず無差別に送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動的にメールアドレスを生成し送信するツールを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宛て先が不明のメールも増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下矢印 13"/>
          <p:cNvGrpSpPr/>
          <p:nvPr/>
        </p:nvGrpSpPr>
        <p:grpSpPr>
          <a:xfrm>
            <a:off x="4290840" y="3103560"/>
            <a:ext cx="1487520" cy="919080"/>
            <a:chOff x="4290840" y="3103560"/>
            <a:chExt cx="1487520" cy="919080"/>
          </a:xfrm>
        </p:grpSpPr>
        <p:pic>
          <p:nvPicPr>
            <p:cNvPr id="412" name="下矢印 13" descr=""/>
            <p:cNvPicPr/>
            <p:nvPr/>
          </p:nvPicPr>
          <p:blipFill>
            <a:blip r:embed="rId2"/>
            <a:stretch/>
          </p:blipFill>
          <p:spPr>
            <a:xfrm>
              <a:off x="4290840" y="3103560"/>
              <a:ext cx="148752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4697280" y="3143160"/>
              <a:ext cx="67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30A8-D826-4D09-AA7A-649CB746236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7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マメ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57120" y="2500200"/>
            <a:ext cx="4103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虚偽の情報が広がる可能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714920" y="2500200"/>
            <a:ext cx="38163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＊＊を誘拐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AutoShape 12"/>
          <p:cNvGrpSpPr/>
          <p:nvPr/>
        </p:nvGrpSpPr>
        <p:grpSpPr>
          <a:xfrm>
            <a:off x="1504800" y="3743280"/>
            <a:ext cx="1927440" cy="847800"/>
            <a:chOff x="1504800" y="3743280"/>
            <a:chExt cx="1927440" cy="847800"/>
          </a:xfrm>
        </p:grpSpPr>
        <p:pic>
          <p:nvPicPr>
            <p:cNvPr id="420" name="AutoShape 12" descr=""/>
            <p:cNvPicPr/>
            <p:nvPr/>
          </p:nvPicPr>
          <p:blipFill>
            <a:blip r:embed="rId1"/>
            <a:stretch/>
          </p:blipFill>
          <p:spPr>
            <a:xfrm>
              <a:off x="1504800" y="3743280"/>
              <a:ext cx="192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021040" y="3786120"/>
              <a:ext cx="900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テキスト ボックス 11"/>
          <p:cNvSpPr/>
          <p:nvPr/>
        </p:nvSpPr>
        <p:spPr>
          <a:xfrm>
            <a:off x="2571840" y="1428840"/>
            <a:ext cx="3857400" cy="76716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事実無根の内容を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いたずら・嫌がら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AutoShape 12"/>
          <p:cNvGrpSpPr/>
          <p:nvPr/>
        </p:nvGrpSpPr>
        <p:grpSpPr>
          <a:xfrm>
            <a:off x="5651640" y="3743280"/>
            <a:ext cx="1925640" cy="847800"/>
            <a:chOff x="5651640" y="3743280"/>
            <a:chExt cx="1925640" cy="847800"/>
          </a:xfrm>
        </p:grpSpPr>
        <p:pic>
          <p:nvPicPr>
            <p:cNvPr id="424" name="AutoShape 12" descr=""/>
            <p:cNvPicPr/>
            <p:nvPr/>
          </p:nvPicPr>
          <p:blipFill>
            <a:blip r:embed="rId2"/>
            <a:stretch/>
          </p:blipFill>
          <p:spPr>
            <a:xfrm>
              <a:off x="5651640" y="374328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6165720" y="3786120"/>
              <a:ext cx="90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角丸四角形 13"/>
          <p:cNvGrpSpPr/>
          <p:nvPr/>
        </p:nvGrpSpPr>
        <p:grpSpPr>
          <a:xfrm>
            <a:off x="4711680" y="4614840"/>
            <a:ext cx="3925800" cy="1352520"/>
            <a:chOff x="4711680" y="4614840"/>
            <a:chExt cx="3925800" cy="1352520"/>
          </a:xfrm>
        </p:grpSpPr>
        <p:pic>
          <p:nvPicPr>
            <p:cNvPr id="427" name="角丸四角形 13" descr=""/>
            <p:cNvPicPr/>
            <p:nvPr/>
          </p:nvPicPr>
          <p:blipFill>
            <a:blip r:embed="rId3"/>
            <a:stretch/>
          </p:blipFill>
          <p:spPr>
            <a:xfrm>
              <a:off x="4711680" y="4614840"/>
              <a:ext cx="39258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844880" y="4702320"/>
              <a:ext cx="366876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マか実際の犯行予告か判断が難しい場合は、放置せずに警察等に連絡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角丸四角形 14"/>
          <p:cNvGrpSpPr/>
          <p:nvPr/>
        </p:nvGrpSpPr>
        <p:grpSpPr>
          <a:xfrm>
            <a:off x="360360" y="4602240"/>
            <a:ext cx="4199040" cy="1347840"/>
            <a:chOff x="360360" y="4602240"/>
            <a:chExt cx="4199040" cy="1347840"/>
          </a:xfrm>
        </p:grpSpPr>
        <p:pic>
          <p:nvPicPr>
            <p:cNvPr id="430" name="角丸四角形 14" descr=""/>
            <p:cNvPicPr/>
            <p:nvPr/>
          </p:nvPicPr>
          <p:blipFill>
            <a:blip r:embed="rId4"/>
            <a:stretch/>
          </p:blipFill>
          <p:spPr>
            <a:xfrm>
              <a:off x="360360" y="4602240"/>
              <a:ext cx="419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487440" y="4702320"/>
              <a:ext cx="39542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振り回されず、怪しいメールに対しては一切応じないで削除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29BB-D4E2-4329-A6A3-FDC2F36E117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2.7.3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　メールやブログでのいじめ・ストーカー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785600" y="2642760"/>
            <a:ext cx="5915160" cy="10033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クラスメートの悪口・中傷を書き込み送信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カメラ付の携帯で撮影した写真を添付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メールによるストーカー行為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714240" y="1571760"/>
            <a:ext cx="3457800" cy="79200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高生が携帯を所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4929120" y="1500120"/>
            <a:ext cx="2954520" cy="857160"/>
          </a:xfrm>
          <a:prstGeom prst="rect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Gill Sans MT"/>
              </a:rPr>
              <a:t>いじめに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4214880" y="2000160"/>
            <a:ext cx="7189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AutoShape 7"/>
          <p:cNvGrpSpPr/>
          <p:nvPr/>
        </p:nvGrpSpPr>
        <p:grpSpPr>
          <a:xfrm>
            <a:off x="1504800" y="5102280"/>
            <a:ext cx="6102360" cy="774720"/>
            <a:chOff x="1504800" y="5102280"/>
            <a:chExt cx="6102360" cy="774720"/>
          </a:xfrm>
        </p:grpSpPr>
        <p:pic>
          <p:nvPicPr>
            <p:cNvPr id="440" name="AutoShape 7" descr=""/>
            <p:cNvPicPr/>
            <p:nvPr/>
          </p:nvPicPr>
          <p:blipFill>
            <a:blip r:embed="rId1"/>
            <a:stretch/>
          </p:blipFill>
          <p:spPr>
            <a:xfrm>
              <a:off x="1504800" y="5102280"/>
              <a:ext cx="61023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603440" y="5175360"/>
              <a:ext cx="59133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被害が広まる前に、早急に届け出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AutoShape 8"/>
          <p:cNvGrpSpPr/>
          <p:nvPr/>
        </p:nvGrpSpPr>
        <p:grpSpPr>
          <a:xfrm>
            <a:off x="2146320" y="3743280"/>
            <a:ext cx="1932120" cy="1346400"/>
            <a:chOff x="2146320" y="3743280"/>
            <a:chExt cx="1932120" cy="1346400"/>
          </a:xfrm>
        </p:grpSpPr>
        <p:pic>
          <p:nvPicPr>
            <p:cNvPr id="443" name="AutoShape 8" descr=""/>
            <p:cNvPicPr/>
            <p:nvPr/>
          </p:nvPicPr>
          <p:blipFill>
            <a:blip r:embed="rId2"/>
            <a:stretch/>
          </p:blipFill>
          <p:spPr>
            <a:xfrm>
              <a:off x="2146320" y="3743280"/>
              <a:ext cx="1932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664000" y="3786120"/>
              <a:ext cx="900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Rectangle 9"/>
          <p:cNvGrpSpPr/>
          <p:nvPr/>
        </p:nvGrpSpPr>
        <p:grpSpPr>
          <a:xfrm>
            <a:off x="4133880" y="3681360"/>
            <a:ext cx="3668760" cy="1347840"/>
            <a:chOff x="4133880" y="3681360"/>
            <a:chExt cx="3668760" cy="1347840"/>
          </a:xfrm>
        </p:grpSpPr>
        <p:pic>
          <p:nvPicPr>
            <p:cNvPr id="446" name="Rectangle 9" descr=""/>
            <p:cNvPicPr/>
            <p:nvPr/>
          </p:nvPicPr>
          <p:blipFill>
            <a:blip r:embed="rId3"/>
            <a:stretch/>
          </p:blipFill>
          <p:spPr>
            <a:xfrm>
              <a:off x="4133880" y="3681360"/>
              <a:ext cx="36687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214880" y="3786120"/>
              <a:ext cx="35272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情報はすぐに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本人に大きなダメー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不登校や自殺の原因に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スライド番号プレースホルダ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6B35-F895-43B8-8DEE-DDF943D0AA0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８　掲示板・コミュニティ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1" name="Rectangle 3"/>
          <p:cNvGrpSpPr/>
          <p:nvPr/>
        </p:nvGrpSpPr>
        <p:grpSpPr>
          <a:xfrm>
            <a:off x="268200" y="2571840"/>
            <a:ext cx="5980320" cy="2165400"/>
            <a:chOff x="268200" y="2571840"/>
            <a:chExt cx="5980320" cy="2165400"/>
          </a:xfrm>
        </p:grpSpPr>
        <p:pic>
          <p:nvPicPr>
            <p:cNvPr id="452" name="Rectangle 3" descr=""/>
            <p:cNvPicPr/>
            <p:nvPr/>
          </p:nvPicPr>
          <p:blipFill>
            <a:blip r:embed="rId1"/>
            <a:stretch/>
          </p:blipFill>
          <p:spPr>
            <a:xfrm>
              <a:off x="268200" y="2571840"/>
              <a:ext cx="598032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357120" y="2643120"/>
              <a:ext cx="58327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チャット・掲示板で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顔が見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ゲーム感覚で無責任に書き込む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被害は一瞬で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情報が暴走し、２次的、３次的被害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4"/>
          <p:cNvSpPr/>
          <p:nvPr/>
        </p:nvSpPr>
        <p:spPr>
          <a:xfrm>
            <a:off x="1000080" y="1643040"/>
            <a:ext cx="5643720" cy="79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誹謗：他人の悪口をいうこと、そし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傷：無根拠のことをいって、名誉を傷つけ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Rectangle 7"/>
          <p:cNvGrpSpPr/>
          <p:nvPr/>
        </p:nvGrpSpPr>
        <p:grpSpPr>
          <a:xfrm>
            <a:off x="291960" y="5389560"/>
            <a:ext cx="5956560" cy="779400"/>
            <a:chOff x="291960" y="5389560"/>
            <a:chExt cx="5956560" cy="779400"/>
          </a:xfrm>
        </p:grpSpPr>
        <p:pic>
          <p:nvPicPr>
            <p:cNvPr id="456" name="Rectangle 7" descr=""/>
            <p:cNvPicPr/>
            <p:nvPr/>
          </p:nvPicPr>
          <p:blipFill>
            <a:blip r:embed="rId2"/>
            <a:stretch/>
          </p:blipFill>
          <p:spPr>
            <a:xfrm>
              <a:off x="291960" y="5389560"/>
              <a:ext cx="59565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57120" y="5429160"/>
              <a:ext cx="5832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まず、相手の気持ちになって、思いやりを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8"/>
          <p:cNvGrpSpPr/>
          <p:nvPr/>
        </p:nvGrpSpPr>
        <p:grpSpPr>
          <a:xfrm>
            <a:off x="2292480" y="4743360"/>
            <a:ext cx="1925640" cy="627120"/>
            <a:chOff x="2292480" y="4743360"/>
            <a:chExt cx="1925640" cy="627120"/>
          </a:xfrm>
        </p:grpSpPr>
        <p:pic>
          <p:nvPicPr>
            <p:cNvPr id="459" name="AutoShape 8" descr=""/>
            <p:cNvPicPr/>
            <p:nvPr/>
          </p:nvPicPr>
          <p:blipFill>
            <a:blip r:embed="rId3"/>
            <a:stretch/>
          </p:blipFill>
          <p:spPr>
            <a:xfrm>
              <a:off x="2292480" y="4743360"/>
              <a:ext cx="1925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806560" y="4786200"/>
              <a:ext cx="9003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08C4-0CE2-4789-BFCE-CD270590FA3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テキスト ボックス 9"/>
          <p:cNvSpPr/>
          <p:nvPr/>
        </p:nvSpPr>
        <p:spPr>
          <a:xfrm>
            <a:off x="500040" y="12142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8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誹謗中傷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9"/>
          <p:cNvPicPr/>
          <p:nvPr/>
        </p:nvPicPr>
        <p:blipFill>
          <a:blip r:embed="rId4"/>
          <a:srcRect l="0" t="844" r="0" b="0"/>
          <a:stretch/>
        </p:blipFill>
        <p:spPr>
          <a:xfrm>
            <a:off x="6370560" y="3071880"/>
            <a:ext cx="2773440" cy="207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8.2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誹謗中傷に発展するケース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28760" y="228600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互いの意見が衝突し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28760" y="335772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個人情報を書き込まれ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4714920" y="3000240"/>
            <a:ext cx="4214880" cy="100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掲載内容やメールを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管理者に削除を依頼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fb8c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プロバイダ責任制限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28760" y="44290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企業や団体に対する中傷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714920" y="4143240"/>
            <a:ext cx="4214880" cy="9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企業の名誉毀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業務妨害が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証拠を保存し警察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AutoShape 9"/>
          <p:cNvGrpSpPr/>
          <p:nvPr/>
        </p:nvGrpSpPr>
        <p:grpSpPr>
          <a:xfrm>
            <a:off x="3859200" y="2328840"/>
            <a:ext cx="785880" cy="573120"/>
            <a:chOff x="3859200" y="2328840"/>
            <a:chExt cx="785880" cy="573120"/>
          </a:xfrm>
        </p:grpSpPr>
        <p:pic>
          <p:nvPicPr>
            <p:cNvPr id="472" name="AutoShape 9" descr=""/>
            <p:cNvPicPr/>
            <p:nvPr/>
          </p:nvPicPr>
          <p:blipFill>
            <a:blip r:embed="rId1"/>
            <a:stretch/>
          </p:blipFill>
          <p:spPr>
            <a:xfrm>
              <a:off x="3859200" y="23288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4091040" y="23572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AutoShape 10"/>
          <p:cNvGrpSpPr/>
          <p:nvPr/>
        </p:nvGrpSpPr>
        <p:grpSpPr>
          <a:xfrm>
            <a:off x="3859200" y="3402000"/>
            <a:ext cx="785880" cy="566640"/>
            <a:chOff x="3859200" y="3402000"/>
            <a:chExt cx="785880" cy="566640"/>
          </a:xfrm>
        </p:grpSpPr>
        <p:pic>
          <p:nvPicPr>
            <p:cNvPr id="475" name="AutoShape 10" descr=""/>
            <p:cNvPicPr/>
            <p:nvPr/>
          </p:nvPicPr>
          <p:blipFill>
            <a:blip r:embed="rId2"/>
            <a:stretch/>
          </p:blipFill>
          <p:spPr>
            <a:xfrm>
              <a:off x="3859200" y="3402000"/>
              <a:ext cx="7858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4091040" y="342900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1"/>
          <p:cNvGrpSpPr/>
          <p:nvPr/>
        </p:nvGrpSpPr>
        <p:grpSpPr>
          <a:xfrm>
            <a:off x="3859200" y="4400640"/>
            <a:ext cx="785880" cy="568080"/>
            <a:chOff x="3859200" y="4400640"/>
            <a:chExt cx="785880" cy="568080"/>
          </a:xfrm>
        </p:grpSpPr>
        <p:pic>
          <p:nvPicPr>
            <p:cNvPr id="478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400640"/>
              <a:ext cx="7858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4091040" y="44290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AutoShape 12"/>
          <p:cNvSpPr/>
          <p:nvPr/>
        </p:nvSpPr>
        <p:spPr>
          <a:xfrm>
            <a:off x="785880" y="1357200"/>
            <a:ext cx="2879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5357880" y="1357200"/>
            <a:ext cx="273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CC12-B309-49CF-A417-9D9252480CF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フッター プレースホルダ 1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28760" y="53578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脅迫・犯行予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AutoShape 11"/>
          <p:cNvGrpSpPr/>
          <p:nvPr/>
        </p:nvGrpSpPr>
        <p:grpSpPr>
          <a:xfrm>
            <a:off x="3859200" y="5327640"/>
            <a:ext cx="785880" cy="573120"/>
            <a:chOff x="3859200" y="5327640"/>
            <a:chExt cx="785880" cy="573120"/>
          </a:xfrm>
        </p:grpSpPr>
        <p:pic>
          <p:nvPicPr>
            <p:cNvPr id="486" name="AutoShape 11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091040" y="535788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8"/>
          <p:cNvSpPr/>
          <p:nvPr/>
        </p:nvSpPr>
        <p:spPr>
          <a:xfrm>
            <a:off x="4714920" y="5357880"/>
            <a:ext cx="421488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ト管理者やプロバイダに届け出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威力業務妨害（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5.6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節参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4714920" y="2143080"/>
            <a:ext cx="421488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感情的になり、口論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時間をおいて冷静に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９　違法販売・有害情報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000" y="2205000"/>
            <a:ext cx="4537080" cy="186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AutoShape 7"/>
          <p:cNvGrpSpPr/>
          <p:nvPr/>
        </p:nvGrpSpPr>
        <p:grpSpPr>
          <a:xfrm>
            <a:off x="5010120" y="2882880"/>
            <a:ext cx="628560" cy="781200"/>
            <a:chOff x="5010120" y="2882880"/>
            <a:chExt cx="628560" cy="781200"/>
          </a:xfrm>
        </p:grpSpPr>
        <p:pic>
          <p:nvPicPr>
            <p:cNvPr id="495" name="AutoShape 7" descr=""/>
            <p:cNvPicPr/>
            <p:nvPr/>
          </p:nvPicPr>
          <p:blipFill>
            <a:blip r:embed="rId1"/>
            <a:stretch/>
          </p:blipFill>
          <p:spPr>
            <a:xfrm>
              <a:off x="5010120" y="2882880"/>
              <a:ext cx="6285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202360" y="2924280"/>
              <a:ext cx="2523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8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E59A-EE6C-4744-9D22-27E85406B35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テキスト ボックス 9"/>
          <p:cNvSpPr/>
          <p:nvPr/>
        </p:nvSpPr>
        <p:spPr>
          <a:xfrm>
            <a:off x="571680" y="135720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9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違法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T.Yamazumi</cp:lastModifiedBy>
  <dcterms:modified xsi:type="dcterms:W3CDTF">2009-11-02T05:06:57Z</dcterms:modified>
  <cp:revision>89</cp:revision>
  <dc:subject/>
  <dc:title>ネットワーク社会の情報倫理</dc:title>
</cp:coreProperties>
</file>