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C930-3C33-468D-BAF4-FE00A13FF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3FA-715B-45ED-A1B7-34B3B93E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372-2533-46B3-AD30-0120611E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89C-3B59-4441-AAAF-620419F9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7B1-D02D-41E2-8CA8-274F8EF2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1317-BF02-40BF-B98A-07C0E9BC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BDEF-5833-4E2D-8782-693151B2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4ED7-ABCA-4919-9508-9C576F2A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3C46-18E2-4A9B-82EE-BA2D834F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9E47-6D81-4B21-92EA-6E3E0AB0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1EE7-0573-49CF-87C5-AB324743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D3AC-FEDB-486A-9116-22411C2E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E1B-4571-4824-BD97-BCF16A1B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BD71-3A31-43CE-9B1A-7BF53BE9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F80F-937C-45F2-8422-F8FE0D41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7942-AC41-407C-A5FA-7B51EFEB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7A36-B6E2-4A66-A4D9-C7F5851C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6821-2679-4BC5-8972-07A028E7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E8CA-4969-4EFF-8F25-6E832FC5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85C7-C482-4B85-B98A-E928249C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76593-F925-45EC-8B8E-29ED69AF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3ADFA-5874-494D-87AE-20EE993B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1EC5-D767-4C4B-91CA-D672D259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755-9E14-4A56-9AD3-B71158EF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7C25B-8258-4E41-A47D-B0687367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1D2D-6FF2-479D-A270-D887E0B5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47DD4-1F3E-44BC-9C92-412134AA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612B-D821-45E4-A7E4-0DD05B50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65316-20A9-4BC5-BFAD-82874695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364FB-251E-4095-B270-63D0F347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D2F9-35F7-401C-8144-15F7C791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2BEE8-BE0C-4AD7-9893-329CC5B3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09394-4019-4551-951D-B8FA2935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3AF3E-0E0A-4DC3-9C07-C43FBD25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C0F-C5C5-482D-B82F-FC9FC939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17483-75A5-49E3-BA2C-41B62738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7B468-8ADD-469E-A4D4-0C7CEE61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434B-5D03-461D-A041-2E2F472E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3168C-4C30-44EE-874A-30FC85B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F104-337F-493F-9B3B-D96FE47F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7B38B-C6CC-455D-B1A6-4685CDB2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EA7B6-5508-4A87-AFA6-D1486751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00801-0E72-42D8-A2DF-39AF18C1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9D089-64E6-47F9-AE8F-5A1EA96C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6BB45-803B-4B1E-AA7F-73F00FDA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B18-8FCE-4B97-AF81-363D7148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BCD2-E012-495C-B1DE-B9614BFE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0A256-FEA8-49A9-A86D-76FC32FE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F2AFA-9F8A-4CDB-BEAA-596FE5AD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281FA-8CA6-4061-A772-7E653B6D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F4C21-3BE7-4A8B-ACCF-236C8C3E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7F8D3-7DF8-4BDD-8BAD-8835ED57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C666D-5AB0-4F51-983A-4CAE9232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CBA0-CE8D-4F6D-A643-DC5DA948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8617D-014C-42A7-AAC0-00B9FA6E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75D2C-5476-4C18-90BD-1A9DEBD6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53F-2731-48DF-9291-7328EB2D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59913-AC7B-4685-8A48-C8242D3C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6F8D8-6CB4-45AE-B91C-3C7C5E0E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C76EA-6AE7-46BA-9571-B7FD9AAA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22A0D-3A86-4C7A-98E5-2194ED21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4E4F2-42AB-4768-9459-DE8B7DE2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40FA-7914-4702-90C7-91A948C7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91E2D-80CA-451F-8C0E-68BE1603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A6A4F-BEB5-4034-A23B-C295DB6D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05DEB-1CD9-4D84-B35F-E668594C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76B3D-71DD-4CAF-98C2-D491306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DE2-11CD-477B-BE25-77F6DC7A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0D064-E60F-4E3F-AADF-C704AF04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76F22-98CE-455C-A7E6-41B7D624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FA666-560F-4F1A-A634-27677592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27189-82FF-430F-9F25-4E2B2FD6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33E70-18DE-45C6-AAE7-A737B5A0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92C1C-2456-45F5-950A-846087ED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31847-ADD6-4897-B913-7C760C9B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82367-55EF-4397-AFC2-FB93AD30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7C094-0CAC-4234-BAD8-06CB022D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1A56A-B71E-443A-B085-F4AF7643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CC8-85CE-4087-AD8B-D1326A10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47D80-D059-4FDE-9C20-8E94D74F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B7D90-A98F-4CE7-A55F-0D97310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974A4-9990-4501-90C6-0756A59C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22B5E-C1D3-400F-93B7-D7492CB0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4840A-810A-47BE-8479-FFE29320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8ADE0-7987-493D-B1E8-229CD73A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97228-AB62-47CB-87CC-8671D638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79B40-CD8C-4C0E-8CA6-FF732BF9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CED66-52B4-4922-A516-B8653ABD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3758D-84E8-4D6D-BCFE-1B4D4747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BA2-549A-4FE2-BB88-E78A2D8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69F42-EAD4-4A5F-9ED6-DAE48398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1A9D3-1D26-442E-A9AE-8B22E7AA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33AE6-6B9B-4D7D-903C-EBF42613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1A441-0E12-4C3F-86C6-5387C763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B9517-DC51-4D9D-9FD6-697200BE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25F29-AC8B-43FA-9AC1-513908EB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2F13A-F417-4F0A-8644-6B5CF9F6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6F08-A032-4584-99A4-809A32A7674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A5AC-294D-4CC9-BB1E-ED390D4AA6C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622F-64AA-461C-B207-EECB1EB7F78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6056-C5CE-4C8E-B42C-DA5929879A2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B84F-7902-4ECD-AD44-0A31EA9423C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05C4-DD6E-479F-845B-834F7CC74D9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E01B-F833-4779-AB06-CB3867E1570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6656-AB2F-4E84-840E-3B2AEBB9891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9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有害情報の掲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2" name="AutoShape 5"/>
          <p:cNvGrpSpPr/>
          <p:nvPr/>
        </p:nvGrpSpPr>
        <p:grpSpPr>
          <a:xfrm>
            <a:off x="4863960" y="2170080"/>
            <a:ext cx="920880" cy="639720"/>
            <a:chOff x="4863960" y="2170080"/>
            <a:chExt cx="920880" cy="639720"/>
          </a:xfrm>
        </p:grpSpPr>
        <p:pic>
          <p:nvPicPr>
            <p:cNvPr id="503" name="AutoShape 5" descr=""/>
            <p:cNvPicPr/>
            <p:nvPr/>
          </p:nvPicPr>
          <p:blipFill>
            <a:blip r:embed="rId1"/>
            <a:stretch/>
          </p:blipFill>
          <p:spPr>
            <a:xfrm>
              <a:off x="4863960" y="2170080"/>
              <a:ext cx="9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27480" y="2214720"/>
              <a:ext cx="395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FF1A-8DC8-427A-B0B7-C6425BBB242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14"/>
          <p:cNvSpPr/>
          <p:nvPr/>
        </p:nvSpPr>
        <p:spPr>
          <a:xfrm>
            <a:off x="571680" y="1357200"/>
            <a:ext cx="4071600" cy="20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自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方法の情報交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仲間を募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練炭、硫化水素自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犯罪を誘引する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犯罪の共謀や請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泥棒や殺人の方法など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15"/>
          <p:cNvSpPr/>
          <p:nvPr/>
        </p:nvSpPr>
        <p:spPr>
          <a:xfrm>
            <a:off x="5929200" y="1500120"/>
            <a:ext cx="1928880" cy="36828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言論・表現の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16"/>
          <p:cNvSpPr/>
          <p:nvPr/>
        </p:nvSpPr>
        <p:spPr>
          <a:xfrm>
            <a:off x="5929200" y="3000240"/>
            <a:ext cx="1928880" cy="3682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情報・悪影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上下矢印 17"/>
          <p:cNvSpPr/>
          <p:nvPr/>
        </p:nvSpPr>
        <p:spPr>
          <a:xfrm>
            <a:off x="6572160" y="2000160"/>
            <a:ext cx="642960" cy="857520"/>
          </a:xfrm>
          <a:prstGeom prst="up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テキスト ボックス 18"/>
          <p:cNvGrpSpPr/>
          <p:nvPr/>
        </p:nvGrpSpPr>
        <p:grpSpPr>
          <a:xfrm>
            <a:off x="384120" y="4359240"/>
            <a:ext cx="4889520" cy="530280"/>
            <a:chOff x="384120" y="4359240"/>
            <a:chExt cx="4889520" cy="530280"/>
          </a:xfrm>
        </p:grpSpPr>
        <p:pic>
          <p:nvPicPr>
            <p:cNvPr id="512" name="テキスト ボックス 18" descr=""/>
            <p:cNvPicPr/>
            <p:nvPr/>
          </p:nvPicPr>
          <p:blipFill>
            <a:blip r:embed="rId2"/>
            <a:stretch/>
          </p:blipFill>
          <p:spPr>
            <a:xfrm>
              <a:off x="384120" y="4359240"/>
              <a:ext cx="4889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00040" y="4429080"/>
              <a:ext cx="47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青少年ネット規制法（有害サイト規制法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テキスト ボックス 19"/>
          <p:cNvSpPr/>
          <p:nvPr/>
        </p:nvSpPr>
        <p:spPr>
          <a:xfrm>
            <a:off x="785880" y="4857840"/>
            <a:ext cx="72864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携帯電話の事業者やパソコンメーカーに対しフィルタリングを義務づけ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か否かの基準を民間の第三者機関が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下矢印 22"/>
          <p:cNvGrpSpPr/>
          <p:nvPr/>
        </p:nvGrpSpPr>
        <p:grpSpPr>
          <a:xfrm>
            <a:off x="1979640" y="3573360"/>
            <a:ext cx="1341360" cy="765360"/>
            <a:chOff x="1979640" y="3573360"/>
            <a:chExt cx="1341360" cy="765360"/>
          </a:xfrm>
        </p:grpSpPr>
        <p:pic>
          <p:nvPicPr>
            <p:cNvPr id="516" name="下矢印 22" descr=""/>
            <p:cNvPicPr/>
            <p:nvPr/>
          </p:nvPicPr>
          <p:blipFill>
            <a:blip r:embed="rId3"/>
            <a:stretch/>
          </p:blipFill>
          <p:spPr>
            <a:xfrm>
              <a:off x="1979640" y="3573360"/>
              <a:ext cx="134136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349360" y="3607560"/>
              <a:ext cx="607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知的財産権の侵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85520" y="3500280"/>
            <a:ext cx="7643880" cy="15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他の人が作ったデータには、全て著作権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Copyright)</a:t>
            </a: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がある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売り物であるなしにかかわらず、他人の作成したものを勝手にコピーして公開したり配布してはいけない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例外：著作権フリーのデータ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著作権はあるが、利用者に複製や配布を認めている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42960" y="1643040"/>
            <a:ext cx="5800680" cy="41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ジタルデータはすべてファイル単位で扱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Rectangle 6"/>
          <p:cNvGrpSpPr/>
          <p:nvPr/>
        </p:nvGrpSpPr>
        <p:grpSpPr>
          <a:xfrm>
            <a:off x="884160" y="2103480"/>
            <a:ext cx="4894200" cy="914400"/>
            <a:chOff x="884160" y="2103480"/>
            <a:chExt cx="4894200" cy="914400"/>
          </a:xfrm>
        </p:grpSpPr>
        <p:pic>
          <p:nvPicPr>
            <p:cNvPr id="366" name="Rectangle 6" descr=""/>
            <p:cNvPicPr/>
            <p:nvPr/>
          </p:nvPicPr>
          <p:blipFill>
            <a:blip r:embed="rId1"/>
            <a:stretch/>
          </p:blipFill>
          <p:spPr>
            <a:xfrm>
              <a:off x="884160" y="2103480"/>
              <a:ext cx="4894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00080" y="2143080"/>
              <a:ext cx="4714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メディアからメディアへのコピーが容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Web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で公開可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AutoShape 8"/>
          <p:cNvGrpSpPr/>
          <p:nvPr/>
        </p:nvGrpSpPr>
        <p:grpSpPr>
          <a:xfrm>
            <a:off x="2571840" y="2968560"/>
            <a:ext cx="1280880" cy="573120"/>
            <a:chOff x="2571840" y="2968560"/>
            <a:chExt cx="1280880" cy="573120"/>
          </a:xfrm>
        </p:grpSpPr>
        <p:pic>
          <p:nvPicPr>
            <p:cNvPr id="369" name="AutoShape 8" descr=""/>
            <p:cNvPicPr/>
            <p:nvPr/>
          </p:nvPicPr>
          <p:blipFill>
            <a:blip r:embed="rId2"/>
            <a:stretch/>
          </p:blipFill>
          <p:spPr>
            <a:xfrm>
              <a:off x="2571840" y="2968560"/>
              <a:ext cx="128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928960" y="3000240"/>
              <a:ext cx="5713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フッター プレースホルダ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896B-F93C-4897-81C5-344B9B2513F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9"/>
          <p:cNvSpPr/>
          <p:nvPr/>
        </p:nvSpPr>
        <p:spPr>
          <a:xfrm>
            <a:off x="428760" y="121428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6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明朝E"/>
                <a:ea typeface="HG明朝E"/>
              </a:rPr>
              <a:t>デジタルデータと著作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テキスト ボックス 10"/>
          <p:cNvGrpSpPr/>
          <p:nvPr/>
        </p:nvGrpSpPr>
        <p:grpSpPr>
          <a:xfrm>
            <a:off x="2444760" y="5284800"/>
            <a:ext cx="5834160" cy="561960"/>
            <a:chOff x="2444760" y="5284800"/>
            <a:chExt cx="5834160" cy="561960"/>
          </a:xfrm>
        </p:grpSpPr>
        <p:pic>
          <p:nvPicPr>
            <p:cNvPr id="375" name="テキスト ボックス 10" descr=""/>
            <p:cNvPicPr/>
            <p:nvPr/>
          </p:nvPicPr>
          <p:blipFill>
            <a:blip r:embed="rId3"/>
            <a:stretch/>
          </p:blipFill>
          <p:spPr>
            <a:xfrm>
              <a:off x="2444760" y="5284800"/>
              <a:ext cx="5834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571840" y="5357880"/>
              <a:ext cx="56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ジタルデータのコピーは著作権を確かめてか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右矢印 11"/>
          <p:cNvGrpSpPr/>
          <p:nvPr/>
        </p:nvGrpSpPr>
        <p:grpSpPr>
          <a:xfrm>
            <a:off x="1359000" y="5241960"/>
            <a:ext cx="1060200" cy="780840"/>
            <a:chOff x="1359000" y="5241960"/>
            <a:chExt cx="1060200" cy="780840"/>
          </a:xfrm>
        </p:grpSpPr>
        <p:pic>
          <p:nvPicPr>
            <p:cNvPr id="378" name="右矢印 11" descr=""/>
            <p:cNvPicPr/>
            <p:nvPr/>
          </p:nvPicPr>
          <p:blipFill>
            <a:blip r:embed="rId4"/>
            <a:stretch/>
          </p:blipFill>
          <p:spPr>
            <a:xfrm>
              <a:off x="1359000" y="5241960"/>
              <a:ext cx="1060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428840" y="5446800"/>
              <a:ext cx="768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6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ファイル共有ソフ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テキスト ボックス 2"/>
          <p:cNvSpPr/>
          <p:nvPr/>
        </p:nvSpPr>
        <p:spPr>
          <a:xfrm>
            <a:off x="571680" y="1285920"/>
            <a:ext cx="492912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ファイル共有ソフ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File Sharing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214280" y="1714680"/>
            <a:ext cx="746136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複数のユーザ同士が、ファイルを共有するためのソフトウェ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ユーザが自分の欲しいファイルを入手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テキスト ボックス 4"/>
          <p:cNvGrpSpPr/>
          <p:nvPr/>
        </p:nvGrpSpPr>
        <p:grpSpPr>
          <a:xfrm>
            <a:off x="725400" y="3664080"/>
            <a:ext cx="4773600" cy="560160"/>
            <a:chOff x="725400" y="3664080"/>
            <a:chExt cx="4773600" cy="560160"/>
          </a:xfrm>
        </p:grpSpPr>
        <p:pic>
          <p:nvPicPr>
            <p:cNvPr id="384" name="テキスト ボックス 4" descr=""/>
            <p:cNvPicPr/>
            <p:nvPr/>
          </p:nvPicPr>
          <p:blipFill>
            <a:blip r:embed="rId1"/>
            <a:stretch/>
          </p:blipFill>
          <p:spPr>
            <a:xfrm>
              <a:off x="725400" y="3664080"/>
              <a:ext cx="4773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857160" y="37148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複製禁止のデータの共有は違法行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爆発 2 5"/>
          <p:cNvGrpSpPr/>
          <p:nvPr/>
        </p:nvGrpSpPr>
        <p:grpSpPr>
          <a:xfrm>
            <a:off x="5651640" y="2603520"/>
            <a:ext cx="2554200" cy="1846080"/>
            <a:chOff x="5651640" y="2603520"/>
            <a:chExt cx="2554200" cy="1846080"/>
          </a:xfrm>
        </p:grpSpPr>
        <p:pic>
          <p:nvPicPr>
            <p:cNvPr id="387" name="爆発 2 5" descr=""/>
            <p:cNvPicPr/>
            <p:nvPr/>
          </p:nvPicPr>
          <p:blipFill>
            <a:blip r:embed="rId2"/>
            <a:stretch/>
          </p:blipFill>
          <p:spPr>
            <a:xfrm>
              <a:off x="5651640" y="2603520"/>
              <a:ext cx="25542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19800" y="3149640"/>
              <a:ext cx="10414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著作権侵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テキスト ボックス 6"/>
          <p:cNvGrpSpPr/>
          <p:nvPr/>
        </p:nvGrpSpPr>
        <p:grpSpPr>
          <a:xfrm>
            <a:off x="738360" y="4230720"/>
            <a:ext cx="5473440" cy="811080"/>
            <a:chOff x="738360" y="4230720"/>
            <a:chExt cx="5473440" cy="811080"/>
          </a:xfrm>
        </p:grpSpPr>
        <p:pic>
          <p:nvPicPr>
            <p:cNvPr id="390" name="テキスト ボックス 6" descr=""/>
            <p:cNvPicPr/>
            <p:nvPr/>
          </p:nvPicPr>
          <p:blipFill>
            <a:blip r:embed="rId3"/>
            <a:stretch/>
          </p:blipFill>
          <p:spPr>
            <a:xfrm>
              <a:off x="738360" y="4230720"/>
              <a:ext cx="5473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857160" y="4286160"/>
              <a:ext cx="52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共有させることを目的に、サーバやパソコン上にファイルを置くことは著作権（公衆送信権）に抵触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下矢印 7"/>
          <p:cNvGrpSpPr/>
          <p:nvPr/>
        </p:nvGrpSpPr>
        <p:grpSpPr>
          <a:xfrm>
            <a:off x="1979640" y="2708280"/>
            <a:ext cx="1987560" cy="898560"/>
            <a:chOff x="1979640" y="2708280"/>
            <a:chExt cx="1987560" cy="898560"/>
          </a:xfrm>
        </p:grpSpPr>
        <p:pic>
          <p:nvPicPr>
            <p:cNvPr id="393" name="下矢印 7" descr=""/>
            <p:cNvPicPr/>
            <p:nvPr/>
          </p:nvPicPr>
          <p:blipFill>
            <a:blip r:embed="rId4"/>
            <a:stretch/>
          </p:blipFill>
          <p:spPr>
            <a:xfrm>
              <a:off x="1979640" y="2708280"/>
              <a:ext cx="198756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509920" y="2741760"/>
              <a:ext cx="928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右矢印 8"/>
          <p:cNvGrpSpPr/>
          <p:nvPr/>
        </p:nvGrpSpPr>
        <p:grpSpPr>
          <a:xfrm>
            <a:off x="712800" y="5400720"/>
            <a:ext cx="1139760" cy="853920"/>
            <a:chOff x="712800" y="5400720"/>
            <a:chExt cx="1139760" cy="853920"/>
          </a:xfrm>
        </p:grpSpPr>
        <p:pic>
          <p:nvPicPr>
            <p:cNvPr id="396" name="右矢印 8" descr=""/>
            <p:cNvPicPr/>
            <p:nvPr/>
          </p:nvPicPr>
          <p:blipFill>
            <a:blip r:embed="rId5"/>
            <a:stretch/>
          </p:blipFill>
          <p:spPr>
            <a:xfrm>
              <a:off x="712800" y="5400720"/>
              <a:ext cx="11397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85880" y="5608800"/>
              <a:ext cx="820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テキスト ボックス 9"/>
          <p:cNvGrpSpPr/>
          <p:nvPr/>
        </p:nvGrpSpPr>
        <p:grpSpPr>
          <a:xfrm>
            <a:off x="1944720" y="5499000"/>
            <a:ext cx="5688000" cy="567000"/>
            <a:chOff x="1944720" y="5499000"/>
            <a:chExt cx="5688000" cy="567000"/>
          </a:xfrm>
        </p:grpSpPr>
        <p:pic>
          <p:nvPicPr>
            <p:cNvPr id="399" name="テキスト ボックス 9" descr=""/>
            <p:cNvPicPr/>
            <p:nvPr/>
          </p:nvPicPr>
          <p:blipFill>
            <a:blip r:embed="rId6"/>
            <a:stretch/>
          </p:blipFill>
          <p:spPr>
            <a:xfrm>
              <a:off x="1944720" y="5499000"/>
              <a:ext cx="5688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71800" y="5572080"/>
              <a:ext cx="55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ァイルの共有はファイルの著作権侵害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5F30-85EE-4431-8967-C28221339C7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電子メールやブログの悪用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テキスト ボックス 5"/>
          <p:cNvSpPr/>
          <p:nvPr/>
        </p:nvSpPr>
        <p:spPr>
          <a:xfrm>
            <a:off x="571680" y="128592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7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スパムメ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785880" y="3071880"/>
            <a:ext cx="2428920" cy="92880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特定電子メール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改正特定商取引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214280" y="4143240"/>
            <a:ext cx="7358400" cy="71460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受信者の承諾なく宣伝メールを配信することはすべて違法行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AutoShape 12"/>
          <p:cNvGrpSpPr/>
          <p:nvPr/>
        </p:nvGrpSpPr>
        <p:grpSpPr>
          <a:xfrm>
            <a:off x="1219320" y="4896000"/>
            <a:ext cx="6205320" cy="1425600"/>
            <a:chOff x="1219320" y="4896000"/>
            <a:chExt cx="6205320" cy="1425600"/>
          </a:xfrm>
        </p:grpSpPr>
        <p:pic>
          <p:nvPicPr>
            <p:cNvPr id="408" name="AutoShape 12" descr=""/>
            <p:cNvPicPr/>
            <p:nvPr/>
          </p:nvPicPr>
          <p:blipFill>
            <a:blip r:embed="rId1"/>
            <a:stretch/>
          </p:blipFill>
          <p:spPr>
            <a:xfrm>
              <a:off x="1219320" y="4896000"/>
              <a:ext cx="6205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346040" y="5060880"/>
              <a:ext cx="59547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スパムメール対策（自己防衛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スパムメールを受信しても開かずに削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フィルタリング機能の活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長めのアドレス設定（記号も含める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テキスト ボックス 12"/>
          <p:cNvSpPr/>
          <p:nvPr/>
        </p:nvSpPr>
        <p:spPr>
          <a:xfrm>
            <a:off x="1143000" y="1714680"/>
            <a:ext cx="585792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ユーザに対して勝手に送りつけてくる広告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受信者の承諾を得ず無差別に送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動的にメールアドレスを生成し送信するツールを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宛て先が不明のメールも増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下矢印 13"/>
          <p:cNvGrpSpPr/>
          <p:nvPr/>
        </p:nvGrpSpPr>
        <p:grpSpPr>
          <a:xfrm>
            <a:off x="4290840" y="3103560"/>
            <a:ext cx="1487520" cy="919080"/>
            <a:chOff x="4290840" y="3103560"/>
            <a:chExt cx="1487520" cy="919080"/>
          </a:xfrm>
        </p:grpSpPr>
        <p:pic>
          <p:nvPicPr>
            <p:cNvPr id="412" name="下矢印 13" descr=""/>
            <p:cNvPicPr/>
            <p:nvPr/>
          </p:nvPicPr>
          <p:blipFill>
            <a:blip r:embed="rId2"/>
            <a:stretch/>
          </p:blipFill>
          <p:spPr>
            <a:xfrm>
              <a:off x="4290840" y="3103560"/>
              <a:ext cx="1487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97280" y="3143160"/>
              <a:ext cx="67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A008-2032-41B6-A3C2-9B7E410A4C9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7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マメ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57120" y="2500200"/>
            <a:ext cx="4103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虚偽の情報が広がる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714920" y="2500200"/>
            <a:ext cx="3816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＊＊を誘拐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AutoShape 12"/>
          <p:cNvGrpSpPr/>
          <p:nvPr/>
        </p:nvGrpSpPr>
        <p:grpSpPr>
          <a:xfrm>
            <a:off x="1504800" y="3743280"/>
            <a:ext cx="1927440" cy="847800"/>
            <a:chOff x="1504800" y="3743280"/>
            <a:chExt cx="1927440" cy="847800"/>
          </a:xfrm>
        </p:grpSpPr>
        <p:pic>
          <p:nvPicPr>
            <p:cNvPr id="420" name="AutoShape 12" descr=""/>
            <p:cNvPicPr/>
            <p:nvPr/>
          </p:nvPicPr>
          <p:blipFill>
            <a:blip r:embed="rId1"/>
            <a:stretch/>
          </p:blipFill>
          <p:spPr>
            <a:xfrm>
              <a:off x="1504800" y="3743280"/>
              <a:ext cx="192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21040" y="3786120"/>
              <a:ext cx="90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テキスト ボックス 11"/>
          <p:cNvSpPr/>
          <p:nvPr/>
        </p:nvSpPr>
        <p:spPr>
          <a:xfrm>
            <a:off x="2571840" y="1428840"/>
            <a:ext cx="3857400" cy="76716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事実無根の内容を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いたずら・嫌がら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AutoShape 12"/>
          <p:cNvGrpSpPr/>
          <p:nvPr/>
        </p:nvGrpSpPr>
        <p:grpSpPr>
          <a:xfrm>
            <a:off x="5651640" y="3743280"/>
            <a:ext cx="1925640" cy="847800"/>
            <a:chOff x="5651640" y="3743280"/>
            <a:chExt cx="1925640" cy="847800"/>
          </a:xfrm>
        </p:grpSpPr>
        <p:pic>
          <p:nvPicPr>
            <p:cNvPr id="424" name="AutoShape 12" descr=""/>
            <p:cNvPicPr/>
            <p:nvPr/>
          </p:nvPicPr>
          <p:blipFill>
            <a:blip r:embed="rId2"/>
            <a:stretch/>
          </p:blipFill>
          <p:spPr>
            <a:xfrm>
              <a:off x="5651640" y="374328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165720" y="3786120"/>
              <a:ext cx="90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角丸四角形 13"/>
          <p:cNvGrpSpPr/>
          <p:nvPr/>
        </p:nvGrpSpPr>
        <p:grpSpPr>
          <a:xfrm>
            <a:off x="4711680" y="4614840"/>
            <a:ext cx="3925800" cy="1352520"/>
            <a:chOff x="4711680" y="4614840"/>
            <a:chExt cx="3925800" cy="1352520"/>
          </a:xfrm>
        </p:grpSpPr>
        <p:pic>
          <p:nvPicPr>
            <p:cNvPr id="427" name="角丸四角形 13" descr=""/>
            <p:cNvPicPr/>
            <p:nvPr/>
          </p:nvPicPr>
          <p:blipFill>
            <a:blip r:embed="rId3"/>
            <a:stretch/>
          </p:blipFill>
          <p:spPr>
            <a:xfrm>
              <a:off x="4711680" y="4614840"/>
              <a:ext cx="3925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844880" y="4702320"/>
              <a:ext cx="36687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マか実際の犯行予告か判断が難しい場合は、放置せずに警察等に連絡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角丸四角形 14"/>
          <p:cNvGrpSpPr/>
          <p:nvPr/>
        </p:nvGrpSpPr>
        <p:grpSpPr>
          <a:xfrm>
            <a:off x="360360" y="4602240"/>
            <a:ext cx="4199040" cy="1347840"/>
            <a:chOff x="360360" y="4602240"/>
            <a:chExt cx="4199040" cy="1347840"/>
          </a:xfrm>
        </p:grpSpPr>
        <p:pic>
          <p:nvPicPr>
            <p:cNvPr id="430" name="角丸四角形 14" descr=""/>
            <p:cNvPicPr/>
            <p:nvPr/>
          </p:nvPicPr>
          <p:blipFill>
            <a:blip r:embed="rId4"/>
            <a:stretch/>
          </p:blipFill>
          <p:spPr>
            <a:xfrm>
              <a:off x="360360" y="4602240"/>
              <a:ext cx="419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87440" y="4702320"/>
              <a:ext cx="39542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振り回されず、怪しいメールに対しては一切応じないで削除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1EA9-1F60-4B41-B397-5804CC4F0CC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2.7.3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　メールやブログでのいじめ・ストーカー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85600" y="2642760"/>
            <a:ext cx="5915160" cy="10033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クラスメートの悪口・中傷を書き込み送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カメラ付の携帯で撮影した写真を添付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メールによるストーカー行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714240" y="1571760"/>
            <a:ext cx="3457800" cy="79200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高生が携帯を所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929120" y="1500120"/>
            <a:ext cx="2954520" cy="857160"/>
          </a:xfrm>
          <a:prstGeom prst="rect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Gill Sans MT"/>
              </a:rPr>
              <a:t>いじめに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214880" y="2000160"/>
            <a:ext cx="7189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AutoShape 7"/>
          <p:cNvGrpSpPr/>
          <p:nvPr/>
        </p:nvGrpSpPr>
        <p:grpSpPr>
          <a:xfrm>
            <a:off x="1504800" y="5102280"/>
            <a:ext cx="6102360" cy="774720"/>
            <a:chOff x="1504800" y="5102280"/>
            <a:chExt cx="6102360" cy="774720"/>
          </a:xfrm>
        </p:grpSpPr>
        <p:pic>
          <p:nvPicPr>
            <p:cNvPr id="440" name="AutoShape 7" descr=""/>
            <p:cNvPicPr/>
            <p:nvPr/>
          </p:nvPicPr>
          <p:blipFill>
            <a:blip r:embed="rId1"/>
            <a:stretch/>
          </p:blipFill>
          <p:spPr>
            <a:xfrm>
              <a:off x="1504800" y="5102280"/>
              <a:ext cx="61023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603440" y="5175360"/>
              <a:ext cx="5913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被害が広まる前に、早急に届け出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AutoShape 8"/>
          <p:cNvGrpSpPr/>
          <p:nvPr/>
        </p:nvGrpSpPr>
        <p:grpSpPr>
          <a:xfrm>
            <a:off x="2146320" y="3743280"/>
            <a:ext cx="1932120" cy="1346400"/>
            <a:chOff x="2146320" y="3743280"/>
            <a:chExt cx="1932120" cy="1346400"/>
          </a:xfrm>
        </p:grpSpPr>
        <p:pic>
          <p:nvPicPr>
            <p:cNvPr id="443" name="AutoShape 8" descr=""/>
            <p:cNvPicPr/>
            <p:nvPr/>
          </p:nvPicPr>
          <p:blipFill>
            <a:blip r:embed="rId2"/>
            <a:stretch/>
          </p:blipFill>
          <p:spPr>
            <a:xfrm>
              <a:off x="2146320" y="3743280"/>
              <a:ext cx="1932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64000" y="3786120"/>
              <a:ext cx="900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ectangle 9"/>
          <p:cNvGrpSpPr/>
          <p:nvPr/>
        </p:nvGrpSpPr>
        <p:grpSpPr>
          <a:xfrm>
            <a:off x="4133880" y="3681360"/>
            <a:ext cx="3668760" cy="1347840"/>
            <a:chOff x="4133880" y="3681360"/>
            <a:chExt cx="3668760" cy="1347840"/>
          </a:xfrm>
        </p:grpSpPr>
        <p:pic>
          <p:nvPicPr>
            <p:cNvPr id="446" name="Rectangle 9" descr=""/>
            <p:cNvPicPr/>
            <p:nvPr/>
          </p:nvPicPr>
          <p:blipFill>
            <a:blip r:embed="rId3"/>
            <a:stretch/>
          </p:blipFill>
          <p:spPr>
            <a:xfrm>
              <a:off x="4133880" y="3681360"/>
              <a:ext cx="36687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214880" y="3786120"/>
              <a:ext cx="352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情報はすぐに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本人に大きなダメー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不登校や自殺の原因に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スライド番号プレースホルダ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263A-E24C-4F6A-9CE8-5B7D790CA02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８　掲示板・コミュニティ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1" name="Rectangle 3"/>
          <p:cNvGrpSpPr/>
          <p:nvPr/>
        </p:nvGrpSpPr>
        <p:grpSpPr>
          <a:xfrm>
            <a:off x="268200" y="2571840"/>
            <a:ext cx="5980320" cy="2165400"/>
            <a:chOff x="268200" y="2571840"/>
            <a:chExt cx="5980320" cy="2165400"/>
          </a:xfrm>
        </p:grpSpPr>
        <p:pic>
          <p:nvPicPr>
            <p:cNvPr id="452" name="Rectangle 3" descr=""/>
            <p:cNvPicPr/>
            <p:nvPr/>
          </p:nvPicPr>
          <p:blipFill>
            <a:blip r:embed="rId1"/>
            <a:stretch/>
          </p:blipFill>
          <p:spPr>
            <a:xfrm>
              <a:off x="268200" y="2571840"/>
              <a:ext cx="59803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7120" y="2643120"/>
              <a:ext cx="58327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チャット・掲示板で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顔が見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ゲーム感覚で無責任に書き込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被害は一瞬で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情報が暴走し、２次的、３次的被害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4"/>
          <p:cNvSpPr/>
          <p:nvPr/>
        </p:nvSpPr>
        <p:spPr>
          <a:xfrm>
            <a:off x="1000080" y="1643040"/>
            <a:ext cx="5643720" cy="79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誹謗：他人の悪口をいうこと、そし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傷：無根拠のことをいって、名誉を傷つけ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7"/>
          <p:cNvGrpSpPr/>
          <p:nvPr/>
        </p:nvGrpSpPr>
        <p:grpSpPr>
          <a:xfrm>
            <a:off x="291960" y="5389560"/>
            <a:ext cx="5956560" cy="779400"/>
            <a:chOff x="291960" y="5389560"/>
            <a:chExt cx="5956560" cy="779400"/>
          </a:xfrm>
        </p:grpSpPr>
        <p:pic>
          <p:nvPicPr>
            <p:cNvPr id="456" name="Rectangle 7" descr=""/>
            <p:cNvPicPr/>
            <p:nvPr/>
          </p:nvPicPr>
          <p:blipFill>
            <a:blip r:embed="rId2"/>
            <a:stretch/>
          </p:blipFill>
          <p:spPr>
            <a:xfrm>
              <a:off x="291960" y="5389560"/>
              <a:ext cx="5956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57120" y="5429160"/>
              <a:ext cx="5832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まず、相手の気持ちになって、思いやりを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8"/>
          <p:cNvGrpSpPr/>
          <p:nvPr/>
        </p:nvGrpSpPr>
        <p:grpSpPr>
          <a:xfrm>
            <a:off x="2292480" y="4743360"/>
            <a:ext cx="1925640" cy="627120"/>
            <a:chOff x="2292480" y="4743360"/>
            <a:chExt cx="1925640" cy="627120"/>
          </a:xfrm>
        </p:grpSpPr>
        <p:pic>
          <p:nvPicPr>
            <p:cNvPr id="459" name="AutoShape 8" descr=""/>
            <p:cNvPicPr/>
            <p:nvPr/>
          </p:nvPicPr>
          <p:blipFill>
            <a:blip r:embed="rId3"/>
            <a:stretch/>
          </p:blipFill>
          <p:spPr>
            <a:xfrm>
              <a:off x="2292480" y="4743360"/>
              <a:ext cx="1925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806560" y="4786200"/>
              <a:ext cx="9003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4399-6044-422B-88B0-5B83052A17C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9"/>
          <p:cNvSpPr/>
          <p:nvPr/>
        </p:nvSpPr>
        <p:spPr>
          <a:xfrm>
            <a:off x="500040" y="12142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8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誹謗中傷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9"/>
          <p:cNvPicPr/>
          <p:nvPr/>
        </p:nvPicPr>
        <p:blipFill>
          <a:blip r:embed="rId4"/>
          <a:srcRect l="0" t="844" r="0" b="0"/>
          <a:stretch/>
        </p:blipFill>
        <p:spPr>
          <a:xfrm>
            <a:off x="6370560" y="3071880"/>
            <a:ext cx="2773440" cy="207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8.2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誹謗中傷に発展するケース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28760" y="228600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互いの意見が衝突し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28760" y="335772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個人情報を書き込まれ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714920" y="3000240"/>
            <a:ext cx="4214880" cy="100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掲載内容やメールを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管理者に削除を依頼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fb8c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プロバイダ責任制限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28760" y="44290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企業や団体に対する中傷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714920" y="4143240"/>
            <a:ext cx="421488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企業の名誉毀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業務妨害が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証拠を保存し警察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AutoShape 9"/>
          <p:cNvGrpSpPr/>
          <p:nvPr/>
        </p:nvGrpSpPr>
        <p:grpSpPr>
          <a:xfrm>
            <a:off x="3859200" y="2328840"/>
            <a:ext cx="785880" cy="573120"/>
            <a:chOff x="3859200" y="2328840"/>
            <a:chExt cx="785880" cy="573120"/>
          </a:xfrm>
        </p:grpSpPr>
        <p:pic>
          <p:nvPicPr>
            <p:cNvPr id="472" name="AutoShape 9" descr=""/>
            <p:cNvPicPr/>
            <p:nvPr/>
          </p:nvPicPr>
          <p:blipFill>
            <a:blip r:embed="rId1"/>
            <a:stretch/>
          </p:blipFill>
          <p:spPr>
            <a:xfrm>
              <a:off x="3859200" y="23288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091040" y="23572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AutoShape 10"/>
          <p:cNvGrpSpPr/>
          <p:nvPr/>
        </p:nvGrpSpPr>
        <p:grpSpPr>
          <a:xfrm>
            <a:off x="3859200" y="3402000"/>
            <a:ext cx="785880" cy="566640"/>
            <a:chOff x="3859200" y="3402000"/>
            <a:chExt cx="785880" cy="566640"/>
          </a:xfrm>
        </p:grpSpPr>
        <p:pic>
          <p:nvPicPr>
            <p:cNvPr id="475" name="AutoShape 10" descr=""/>
            <p:cNvPicPr/>
            <p:nvPr/>
          </p:nvPicPr>
          <p:blipFill>
            <a:blip r:embed="rId2"/>
            <a:stretch/>
          </p:blipFill>
          <p:spPr>
            <a:xfrm>
              <a:off x="3859200" y="3402000"/>
              <a:ext cx="785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4091040" y="342900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1"/>
          <p:cNvGrpSpPr/>
          <p:nvPr/>
        </p:nvGrpSpPr>
        <p:grpSpPr>
          <a:xfrm>
            <a:off x="3859200" y="4400640"/>
            <a:ext cx="785880" cy="568080"/>
            <a:chOff x="3859200" y="4400640"/>
            <a:chExt cx="785880" cy="568080"/>
          </a:xfrm>
        </p:grpSpPr>
        <p:pic>
          <p:nvPicPr>
            <p:cNvPr id="478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400640"/>
              <a:ext cx="7858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091040" y="44290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12"/>
          <p:cNvSpPr/>
          <p:nvPr/>
        </p:nvSpPr>
        <p:spPr>
          <a:xfrm>
            <a:off x="785880" y="1357200"/>
            <a:ext cx="2879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357880" y="1357200"/>
            <a:ext cx="273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5B35-83F8-4907-ADA5-275A410A1F5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フッター プレースホルダ 1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8760" y="53578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脅迫・犯行予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11"/>
          <p:cNvGrpSpPr/>
          <p:nvPr/>
        </p:nvGrpSpPr>
        <p:grpSpPr>
          <a:xfrm>
            <a:off x="3859200" y="5327640"/>
            <a:ext cx="785880" cy="573120"/>
            <a:chOff x="3859200" y="5327640"/>
            <a:chExt cx="785880" cy="573120"/>
          </a:xfrm>
        </p:grpSpPr>
        <p:pic>
          <p:nvPicPr>
            <p:cNvPr id="486" name="AutoShape 11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091040" y="535788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8"/>
          <p:cNvSpPr/>
          <p:nvPr/>
        </p:nvSpPr>
        <p:spPr>
          <a:xfrm>
            <a:off x="4714920" y="5357880"/>
            <a:ext cx="42148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ト管理者やプロバイダに届け出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威力業務妨害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5.6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節参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4714920" y="2143080"/>
            <a:ext cx="421488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感情的になり、口論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時間をおいて冷静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９　違法販売・有害情報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000" y="2205000"/>
            <a:ext cx="453708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AutoShape 7"/>
          <p:cNvGrpSpPr/>
          <p:nvPr/>
        </p:nvGrpSpPr>
        <p:grpSpPr>
          <a:xfrm>
            <a:off x="5010120" y="2882880"/>
            <a:ext cx="628560" cy="781200"/>
            <a:chOff x="5010120" y="2882880"/>
            <a:chExt cx="628560" cy="781200"/>
          </a:xfrm>
        </p:grpSpPr>
        <p:pic>
          <p:nvPicPr>
            <p:cNvPr id="495" name="AutoShape 7" descr=""/>
            <p:cNvPicPr/>
            <p:nvPr/>
          </p:nvPicPr>
          <p:blipFill>
            <a:blip r:embed="rId1"/>
            <a:stretch/>
          </p:blipFill>
          <p:spPr>
            <a:xfrm>
              <a:off x="5010120" y="2882880"/>
              <a:ext cx="6285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202360" y="2924280"/>
              <a:ext cx="252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E38A-EC33-4CBD-B778-A2A4D21C714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9"/>
          <p:cNvSpPr/>
          <p:nvPr/>
        </p:nvSpPr>
        <p:spPr>
          <a:xfrm>
            <a:off x="571680" y="13572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9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違法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T.Yamazumi</cp:lastModifiedBy>
  <dcterms:modified xsi:type="dcterms:W3CDTF">2009-11-02T05:06:57Z</dcterms:modified>
  <cp:revision>89</cp:revision>
  <dc:subject/>
  <dc:title>ネットワーク社会の情報倫理</dc:title>
</cp:coreProperties>
</file>